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4.jpeg" ContentType="image/jpeg"/>
  <Override PartName="/ppt/media/image25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C313-EED2-4D45-9492-3AFDB46B31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это возможно? Это возможно. Региональный интернет-маркетинг по тип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T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носит на 5% меньше эффекта, чем полномасштабные московские решения, но при этом обходится заказчику на 95% дешевл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цифры с потолка – оценка имеет чисто иллюстрирующую эмоциональную  функци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ебует от нас – экономить деньги заказчика. И мы эконом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решения появляются даже раньше столичных аналогов – потому что мы живем в более жестких финансовых  условиях и вынуждены выкручиваться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дключи нацию»: региональная версия Интернет-рекламы 2.0 (промо-акции, промо-игры, фотоконкурсы, просто конкурсы, экспертные линии, блоги, подкасты и т.п. – см. ниже…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 в регионе реализуют бюджетные варианты рекламных ре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AB8-07BB-40EA-B9ED-B9B73859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142-6714-4DD8-B5E4-900F2784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1A0B-FC40-4C51-B6A6-661A830B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314-B496-4ECF-BE5B-A7356D31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1B7F-3424-4DD6-A195-60FB65FF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061C-BBAD-4D57-8CC4-027335B2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2275-0EE9-4A0A-8BE1-1CB049C8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364A-B5B2-4558-92CE-B1A6213B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3062-C055-49F8-B23B-DA47179B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6A26-6BA5-434C-958C-76702B0C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72E9-ADD1-4698-84C2-5314DEF2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609-EAAE-415E-90CA-C062C65D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16C4-22A1-4880-937D-9A07C15F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32D8-DB39-4AD9-9C0A-BEF80013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9B7A-F9AD-4EE7-ABEC-B53E58FE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1D8B-276A-4F0D-B5F0-3B38D7BF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A0E9-7A1D-4F88-A64C-90574A9D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325-589A-4071-81C5-36F77AA7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62D-6779-4164-A402-D5B18430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B9C-EDCB-421D-85BF-2C483958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2AF-D0A5-42A0-9B14-B58BACF0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C58-0701-4D4F-B5D6-24ABE0F1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90F-CC2F-43D8-8DE2-157E9998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8CA-A175-4058-9A2A-A2B142B7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f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f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557000"/>
            <a:ext cx="8001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48FF-03FE-4890-AEA3-4D6DEEBF7A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244C-E982-41BA-AD2F-060FB9D3E2E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323640" y="1413000"/>
            <a:ext cx="7391160" cy="79200"/>
            <a:chOff x="323640" y="1413000"/>
            <a:chExt cx="7391160" cy="79200"/>
          </a:xfrm>
        </p:grpSpPr>
        <p:sp>
          <p:nvSpPr>
            <p:cNvPr id="10" name=""/>
            <p:cNvSpPr/>
            <p:nvPr/>
          </p:nvSpPr>
          <p:spPr>
            <a:xfrm>
              <a:off x="704520" y="1413000"/>
              <a:ext cx="7010280" cy="7884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323280" y="1413000"/>
              <a:ext cx="393480" cy="7920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f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36D0-0548-4DB7-9683-6200E02425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B4D0-1B28-4328-845F-EBD74F4FDCA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gorodfm.ru/myimage.php?img=http://www.gorodfm.ru/blog_anna/wp-content/myfotos/anna/3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rodfm.ru/podcast/" TargetMode="External"/><Relationship Id="rId2" Type="http://schemas.openxmlformats.org/officeDocument/2006/relationships/hyperlink" Target="http://www.gorodfm.ru/podcast/" TargetMode="External"/><Relationship Id="rId3" Type="http://schemas.openxmlformats.org/officeDocument/2006/relationships/hyperlink" Target="http://www.gorodfm.ru/podcast/" TargetMode="External"/><Relationship Id="rId4" Type="http://schemas.openxmlformats.org/officeDocument/2006/relationships/hyperlink" Target="http://www.gorodfm.ru/podcast/" TargetMode="External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beeline.ru/" TargetMode="External"/><Relationship Id="rId2" Type="http://schemas.openxmlformats.org/officeDocument/2006/relationships/hyperlink" Target="http://www.beeline.ru/" TargetMode="External"/><Relationship Id="rId3" Type="http://schemas.openxmlformats.org/officeDocument/2006/relationships/hyperlink" Target="http://www.beeline.ru/" TargetMode="External"/><Relationship Id="rId4" Type="http://schemas.openxmlformats.org/officeDocument/2006/relationships/hyperlink" Target="http://beeline.russianpodcasting.ru/" TargetMode="External"/><Relationship Id="rId5" Type="http://schemas.openxmlformats.org/officeDocument/2006/relationships/hyperlink" Target="http://beeline.russianpodcasting.ru/" TargetMode="External"/><Relationship Id="rId6" Type="http://schemas.openxmlformats.org/officeDocument/2006/relationships/hyperlink" Target="http://beeline.russianpodcasting.ru/" TargetMode="External"/><Relationship Id="rId7" Type="http://schemas.openxmlformats.org/officeDocument/2006/relationships/hyperlink" Target="http://beeline.russianpodcasting.ru/" TargetMode="External"/><Relationship Id="rId8" Type="http://schemas.openxmlformats.org/officeDocument/2006/relationships/hyperlink" Target="http://www.vimpelcom.ru/" TargetMode="External"/><Relationship Id="rId9" Type="http://schemas.openxmlformats.org/officeDocument/2006/relationships/hyperlink" Target="http://www.vimpelcom.ru/" TargetMode="External"/><Relationship Id="rId10" Type="http://schemas.openxmlformats.org/officeDocument/2006/relationships/hyperlink" Target="http://www.vimpelcom.ru/" TargetMode="External"/><Relationship Id="rId11" Type="http://schemas.openxmlformats.org/officeDocument/2006/relationships/hyperlink" Target="http://www.vimpelcom.ru/" TargetMode="External"/><Relationship Id="rId12" Type="http://schemas.openxmlformats.org/officeDocument/2006/relationships/hyperlink" Target="http://www.rosinvest.com/news/191837/" TargetMode="External"/><Relationship Id="rId13" Type="http://schemas.openxmlformats.org/officeDocument/2006/relationships/hyperlink" Target="http://www.rosinvest.com/news/191837/" TargetMode="External"/><Relationship Id="rId14" Type="http://schemas.openxmlformats.org/officeDocument/2006/relationships/hyperlink" Target="http://www.rosinvest.com/news/191837/" TargetMode="External"/><Relationship Id="rId1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gorodfm.ru/firma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gorodfm.ru/qexpert/" TargetMode="External"/><Relationship Id="rId2" Type="http://schemas.openxmlformats.org/officeDocument/2006/relationships/hyperlink" Target="http://www.gorodfm.ru/qexpert/" TargetMode="External"/><Relationship Id="rId3" Type="http://schemas.openxmlformats.org/officeDocument/2006/relationships/hyperlink" Target="http://www.gorodfm.ru/qexpert/" TargetMode="External"/><Relationship Id="rId4" Type="http://schemas.openxmlformats.org/officeDocument/2006/relationships/hyperlink" Target="http://www.gorodfm.ru/qexpert/" TargetMode="External"/><Relationship Id="rId5" Type="http://schemas.openxmlformats.org/officeDocument/2006/relationships/hyperlink" Target="http://www.gorodfm.ru/qexpert/" TargetMode="External"/><Relationship Id="rId6" Type="http://schemas.openxmlformats.org/officeDocument/2006/relationships/hyperlink" Target="http://www.gorodfm.ru/qexpert/" TargetMode="External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gorodfm.ru/eksmo/" TargetMode="External"/><Relationship Id="rId2" Type="http://schemas.openxmlformats.org/officeDocument/2006/relationships/hyperlink" Target="http://www.gorodfm.ru/eksmo/" TargetMode="External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orodfm.ru/about/#ok" TargetMode="External"/><Relationship Id="rId2" Type="http://schemas.openxmlformats.org/officeDocument/2006/relationships/hyperlink" Target="http://www.gorodfm.ru/about/#ok" TargetMode="External"/><Relationship Id="rId3" Type="http://schemas.openxmlformats.org/officeDocument/2006/relationships/hyperlink" Target="http://www.gorodfm.ru/about/#ok" TargetMode="External"/><Relationship Id="rId4" Type="http://schemas.openxmlformats.org/officeDocument/2006/relationships/hyperlink" Target="http://www.gorodfm.ru/about/#ok" TargetMode="External"/><Relationship Id="rId5" Type="http://schemas.openxmlformats.org/officeDocument/2006/relationships/hyperlink" Target="http://www.gorodfm.ru/about/#ok" TargetMode="External"/><Relationship Id="rId6" Type="http://schemas.openxmlformats.org/officeDocument/2006/relationships/hyperlink" Target="http://www.gorodfm.ru/about/#ok" TargetMode="External"/><Relationship Id="rId7" Type="http://schemas.openxmlformats.org/officeDocument/2006/relationships/hyperlink" Target="http://www.gorodfm.ru/about/#ok" TargetMode="External"/><Relationship Id="rId8" Type="http://schemas.openxmlformats.org/officeDocument/2006/relationships/hyperlink" Target="http://subscribe.ru/" TargetMode="External"/><Relationship Id="rId9" Type="http://schemas.openxmlformats.org/officeDocument/2006/relationships/hyperlink" Target="http://subscribe.ru/" TargetMode="External"/><Relationship Id="rId10" Type="http://schemas.openxmlformats.org/officeDocument/2006/relationships/hyperlink" Target="http://www.gorodfm.ru/subscribe/" TargetMode="External"/><Relationship Id="rId11" Type="http://schemas.openxmlformats.org/officeDocument/2006/relationships/hyperlink" Target="http://mail.ru/" TargetMode="External"/><Relationship Id="rId12" Type="http://schemas.openxmlformats.org/officeDocument/2006/relationships/image" Target="../media/image28.png"/><Relationship Id="rId13" Type="http://schemas.openxmlformats.org/officeDocument/2006/relationships/hyperlink" Target="http://subscribe.ru/" TargetMode="External"/><Relationship Id="rId14" Type="http://schemas.openxmlformats.org/officeDocument/2006/relationships/image" Target="../media/image29.png"/><Relationship Id="rId15" Type="http://schemas.openxmlformats.org/officeDocument/2006/relationships/hyperlink" Target="http://www.gorodfm.ru/" TargetMode="External"/><Relationship Id="rId16" Type="http://schemas.openxmlformats.org/officeDocument/2006/relationships/image" Target="../media/image30.png"/><Relationship Id="rId1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granbank.ru/" TargetMode="External"/><Relationship Id="rId3" Type="http://schemas.openxmlformats.org/officeDocument/2006/relationships/hyperlink" Target="http://www.granbank.ru/" TargetMode="External"/><Relationship Id="rId4" Type="http://schemas.openxmlformats.org/officeDocument/2006/relationships/hyperlink" Target="http://www.granbank.ru/" TargetMode="External"/><Relationship Id="rId5" Type="http://schemas.openxmlformats.org/officeDocument/2006/relationships/hyperlink" Target="http://www.granbank.ru/" TargetMode="External"/><Relationship Id="rId6" Type="http://schemas.openxmlformats.org/officeDocument/2006/relationships/hyperlink" Target="http://www.granbank.ru/" TargetMode="External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нтернет-реклама 2.0 -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егиональная версия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Подключи нацию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26200" y="3110040"/>
            <a:ext cx="23526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53480"/>
            <a:ext cx="8001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57000"/>
            <a:ext cx="8001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53480"/>
            <a:ext cx="8001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341360"/>
            <a:ext cx="800100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304920" y="-38736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ффективность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557000"/>
            <a:ext cx="8001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ью про Тест и автомобильные очки на Е1 прочитали не мене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00 водит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катеринбурга (100% ЦА). Это активные небедные люди, имеющие ав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 млн. контак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ЦА (показы Т-блока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вышение узнаваем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рен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спространение информации членами сообщества после окончания 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ост прода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чков для водителей в период акции и в последующий меся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юджет Акции – от 1 тыс.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2. Брендовые и «продающие» игры и  конкурсы в интерне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Брендовые интерактивные игры и  конкурсы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1773360"/>
            <a:ext cx="3889440" cy="1067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имущество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влечение труднодоступных потребителей (высокодоходный сегмент, активный образ жиз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3640" y="1773360"/>
            <a:ext cx="3889440" cy="265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ркетинговые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е нового проду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имиджа брэнда,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лечение внимания к корпоративному сай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2924280"/>
            <a:ext cx="3745080" cy="338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овые игры и конкурсы в интерн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гарантированным приводом клиентов на нужные страницы сайта заказчика (разработка оригинальной маркетинговой идеи, проведение  и статис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Собери и выиграй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айтах участников размещается зашифрованная фраза, которую нужно собрать из ключевых слов, спрятанных в разных разделах. Мы предлагаем пройти забавное испытание – собрать фразу  - и выиграть пр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дар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игинальной форме привлечения пользователей на страницы сайта заказчи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стеме заданий),  а также благодаря расположению картинок (ответов для конкурса) в нижней части страниц, удается в ненавязчивой форме  привлечь внимание к  проекту/услуге/това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ьзователь сам непринужденно изучает веб-страницы с информацией, преследуя, в принципе, иные цел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143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53480"/>
            <a:ext cx="8001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557000"/>
            <a:ext cx="8001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хнология </a:t>
            </a:r>
            <a:r>
              <a:rPr b="1" lang="ru-RU" sz="3600" spc="-1" strike="noStrike">
                <a:solidFill>
                  <a:srgbClr val="006666"/>
                </a:solidFill>
                <a:latin typeface="Wingdings"/>
                <a:ea typeface="Wingdings"/>
              </a:rPr>
              <a:t>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55700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Креативная идея, разработка оригинального текста – опис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дготовка разделов, разработка заданий и размещение «спрятанных» банн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Размещение информации о начале игры (рекла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або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участника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егистрация, уведомления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оддержка конкурса в Фору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Финальный розыгрыш пр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Статистика и Отч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3. Мониторинг и поддержка бренда в интернет-форума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ниторинг и поддержка бренда в интернет-форумах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1989000"/>
            <a:ext cx="2232000" cy="21607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eecc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нитор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е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989000"/>
            <a:ext cx="2232000" cy="21607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eecc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кры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бств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 (форум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1989000"/>
            <a:ext cx="2232000" cy="21607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eecc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ента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сперта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фи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ум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187280" y="4869000"/>
            <a:ext cx="7200720" cy="1844280"/>
            <a:chOff x="1187280" y="4869000"/>
            <a:chExt cx="7200720" cy="1844280"/>
          </a:xfrm>
        </p:grpSpPr>
        <p:sp>
          <p:nvSpPr>
            <p:cNvPr id="154" name=""/>
            <p:cNvSpPr/>
            <p:nvPr/>
          </p:nvSpPr>
          <p:spPr>
            <a:xfrm>
              <a:off x="1187280" y="4869000"/>
              <a:ext cx="7200720" cy="1844280"/>
            </a:xfrm>
            <a:prstGeom prst="ellipse">
              <a:avLst/>
            </a:prstGeom>
            <a:gradFill rotWithShape="0">
              <a:gsLst>
                <a:gs pos="0">
                  <a:srgbClr val="fef3e9"/>
                </a:gs>
                <a:gs pos="100000">
                  <a:srgbClr val="ffcc9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11440" y="5288400"/>
              <a:ext cx="607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ЗУЛЬТАТ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– непрямая реклама, формирование позитивного мнения о компании, продукте, брэнд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еньги!!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5700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знес «растет» не только в сто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 есть уже не только в Москве</a:t>
            </a:r>
            <a:r>
              <a:rPr b="0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гиональным предпринимателям для продвижения тоже нужны новые эффективные каналы – такие, как интер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отличие регионального бизнеса от федеральног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ньги!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ъемы рынка и размеры рекламных бюджетов  в Москве и  Екатеринбурге  несопостави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еология модели «Подключи нацию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Немедийные рекламные и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-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кампании в интернет возможны и эффективны для заказчика с любым бюджетом – даже от 1 тыс.руб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ение для регионов - бюджетные варианты популярных рекламных инстр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57195"/>
                </a:solidFill>
                <a:latin typeface="Arial"/>
              </a:rPr>
              <a:t>Пример: поддержка в форума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775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Брендинг в форумах: я представляю компанию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80010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Брендинг в форумах: я эксперт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6899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ажные правила продвижения брэнда в форума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757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Не стрелять в лоб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ищите, чем вы можете быть полез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ажать интересы владельцев ресур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крывая тему -  сразу же продумывать инструменты защи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42920" y="4365720"/>
            <a:ext cx="7200720" cy="1844280"/>
            <a:chOff x="1042920" y="4365720"/>
            <a:chExt cx="7200720" cy="1844280"/>
          </a:xfrm>
        </p:grpSpPr>
        <p:sp>
          <p:nvSpPr>
            <p:cNvPr id="165" name=""/>
            <p:cNvSpPr/>
            <p:nvPr/>
          </p:nvSpPr>
          <p:spPr>
            <a:xfrm>
              <a:off x="1042920" y="4365720"/>
              <a:ext cx="7200720" cy="1844280"/>
            </a:xfrm>
            <a:prstGeom prst="ellipse">
              <a:avLst/>
            </a:prstGeom>
            <a:gradFill rotWithShape="0">
              <a:gsLst>
                <a:gs pos="0">
                  <a:srgbClr val="fef3e9"/>
                </a:gs>
                <a:gs pos="100000">
                  <a:srgbClr val="ffcc9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67080" y="4785120"/>
              <a:ext cx="6076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АЖ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– профессионализм исполнител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УЧШ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– выступать от «своего лица»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4. БЛОГ = ваша личная газет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БЛОГ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2939760"/>
            <a:ext cx="856908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ая публикация любых материалов «без цензуры»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тная связь (комментарии к блогу - изучение общественного мн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комьюнити: публикация /обсуждение тем по интере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8720" y="1444320"/>
            <a:ext cx="675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ог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личный онлайновый журн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 мыслями, комментар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 часто - гиперссылками, размещаемыми авт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арианты маркетингового использовани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Блогов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1557000"/>
            <a:ext cx="8001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Ведение собственных (корпоративных и личных) блогов, привлечение ауди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Акции в сторонних сообществах блоггер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Экспертные комментарии в сообщества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ожет примыкать к п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orod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-ские блог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920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ИП – корпоративный блог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6537240" cy="4824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586160" y="2110680"/>
            <a:ext cx="527832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04000" y="115920"/>
            <a:ext cx="20764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нна Кирьянова – личный блог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329600" cy="4751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12000" y="189000"/>
            <a:ext cx="10000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едийная реклама: дорого и малодоступно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040" y="1557360"/>
            <a:ext cx="40179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1. Дефицит мес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эффективны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размещен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дий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кламы на рейтинговых региональных сайтах в август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спроданы уже до конца г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етевые агентства «выдавливают» регионалов с рын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90680" y="1557360"/>
            <a:ext cx="39020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2. Нехватка средств –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оим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каза баннера на обложке рейтингового портала (например Баннер "Небоскреб" 240х400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 54.300 руб/неделя) –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вписывается в бюдж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кламных кампаний даже крупных региональных рекламодателей (средние банки, телекоммуникационные компании, сфера услуг (сети)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9640" y="4869000"/>
            <a:ext cx="80010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 делать региональным рекламодателям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кать собственные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 делать региональным ресурсам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рабатывать и  предлагать региональным рекламодателям набор услуг и возможностей для продвижения, аналогичный московскому и западному – но на порядок дешевл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вые сообщества под проек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113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5. Подкастинг = ваше личное ради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дкастинг: звуковой блог, радио-ЖЖ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14040" y="1557000"/>
            <a:ext cx="39243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еврале 2006 на сайте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Gorodfm.ru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/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odcast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артова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ый городской подкастинг-проект!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етители получили возможность не только слушать авторские программы и ток-шоу радиостанции 107,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писи, но и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здавать и выкладывать свои радиопере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991040" y="1722600"/>
            <a:ext cx="3924360" cy="4208400"/>
            <a:chOff x="4991040" y="1722600"/>
            <a:chExt cx="3924360" cy="4208400"/>
          </a:xfrm>
        </p:grpSpPr>
        <p:pic>
          <p:nvPicPr>
            <p:cNvPr id="188" name="" descr=""/>
            <p:cNvPicPr/>
            <p:nvPr/>
          </p:nvPicPr>
          <p:blipFill>
            <a:blip r:embed="rId5"/>
            <a:stretch/>
          </p:blipFill>
          <p:spPr>
            <a:xfrm>
              <a:off x="4991040" y="1722600"/>
              <a:ext cx="39243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 txBox="1"/>
            <p:nvPr/>
          </p:nvSpPr>
          <p:spPr>
            <a:xfrm>
              <a:off x="4991040" y="1722600"/>
              <a:ext cx="3924360" cy="42084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dcasting.gorodfm.r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55700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вый же день официальной работы проект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casting.gorodfm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2 новых подкастера со своими прое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т же день была выложена программа Ивана Шилко «Водительский комитет»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сутки она была скачана более 70 ра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чение трех дней с момента открытия о первом подкаст-портале Екатеринбурга написали нескольк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местных – АПИ, Эхо Москвы-Екатеринбур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федеральных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мблер.Новости, 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e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Новост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zei.co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ir.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кастинг – это новая реальная возможность быть услыша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дкастинг и маркетинг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040" y="1557360"/>
            <a:ext cx="392436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odcasting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ичает от других типов доставки аудио-контента тем, ч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слушатели" сами подписываю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его получение, используя формат RSS 2.0 (как правило бесплатн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odcasti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зволяет любому придумать и опубликовать свое "радио шоу", а традиционному радио дает новый канал распростран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990680" y="1557360"/>
            <a:ext cx="3924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нтернете нужно только найти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чать podcast – файл с запис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том можно отключиться и прослушивать файлы либо на iPod (от имени которого и пошел термин), либо подойдет любой цифровой плеер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грывающей mp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ли компьютер с подходящим соф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71280" y="5516280"/>
            <a:ext cx="8001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начально podcasting позволял создавать свой контент частным лицам, но пытлив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ы маркетологов не могли пройти мим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ервыми опробовали эту технологию General Motors Corp., Audi и Warner Bros. 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дкастинг и маркетинг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557000"/>
            <a:ext cx="8001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urina, торговая марка кормов для домашних животных (принадлежит Nestle), люби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иментировать с маркетинговыми новин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владельцы домашних животных могут скачать на мобильники realtones типа лая пса или мяуканья кошки, и мобильные обои для экранов, а также целый ряд RSS подписок на темы, связанные с животны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ав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urina начала выпускать аудио Советы о Животны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женедельно ветеринары и просто любители животных разговаривают о тренировках, поведении и еде для своих любимцев, потом эти передачи записываются в podcasting формате и выкладываются в интернет.</a:t>
            </a:r>
            <a:br>
              <a:rPr sz="24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дкастинг:  «Радио Билайн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55700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«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Билайн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апреле 2006 начал выпуск подкастов, то есть программ интернет-радио, на регулярные передачи которого можно подписаться, и автоматически получать их на свой компьютер или MP3-пле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нта подкаст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адио «Билайн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ходится по адресу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beeline.russianpodcasting.ru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дписаться на подкасты можно с помощью iTunes или, например, бесплатной программы Ju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вом выпуске подкаста «Билайн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гей Авде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сполнительный вице-президент  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ОАО «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ВымпелКом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»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развитию бизнеса в странах СНГ, комментирует вывод торговой марки «Билайн» на рынок Украины и рассказывает о планах «Билайн» в Украине и других странах бывшего Сою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Новый выпуск "Радио "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Билайн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" - о рублевых тарифа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4.04.0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й выпуск официального подкаста "Билайн" посвящен вводу рублевых тарифов - событие комментирует Зинаида Хохлова, и.о. директора ОАО "ВымпелКом"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 информации пресс-службы комп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761760"/>
            <a:ext cx="85201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Где еще можно применить подкастинг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уск новых радиостанций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 нужно покупать частоту, и можно в тестовом режиме начать разрабатывать программную линейку. Во время выборов’2004 на Украине была развернута "альтернативная" радиостанция, которая себя оправдал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фициальны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скурсии по музеям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акачиваешь заранее самые интересные маршруты от местных ценителей искусства и экономишь врем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уристические аудио-гид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Авиакомпания Virgin Atlantic выпустила первую запись в формате podcast: она описывает лучшие рестораны и пабы Нью-Йорка и бесплатно дается всем пассажирам рейса Лондон-Нью-Йор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ени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дна шотландская школа предлагает удаленное обучение иностранных языкам. Инструкции к сложной технике или аутотрениги также будут очень кста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лигия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рокое поле для трансляций проповедей и служ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родни предыдущему. Голоса избирателей в обмен на голосовой файл с программой кандидат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чник: Internet.Ru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И другие  инструменты поддержки лояль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14040" y="1557000"/>
            <a:ext cx="8001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мо-раздел на инф.сайт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762120"/>
            <a:ext cx="800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526572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7) Раздел в рубрике «Полезно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тегия коммуникации заказчика с клиентом без участия сайта заказч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1916280"/>
            <a:ext cx="392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ПРОМО-сайта (раздела) в рубрик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Полезно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7) - мини-сайт заказчика с текстом, иллюстрациями и постоянным адресом типа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gorodfm.ru/firm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яет задачу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лонить клиента заказчика к действию (звонок в офис, посещение мероприятия и т.п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4343400" cy="3343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36003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клама 2.0 – региональная верс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71280" y="1557000"/>
            <a:ext cx="3924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лощадка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нерирует 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оставляет серви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ивает орг.и  тех. сопрово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990680" y="1557000"/>
            <a:ext cx="39243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льзователь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ет конт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гирует на контент (интеракти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вигает контент (вирусный маркетин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4581000"/>
            <a:ext cx="80010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кламодатель: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имает сли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мо-проект: Звездные войн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1866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53480"/>
            <a:ext cx="8001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1557000"/>
            <a:ext cx="39243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постоянно действующего раздела "Вопрос эксперту" в интерн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 сайте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www.gorodfm.ru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qexpert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тернет-пользователям предоставляется возможность получать консультации по профилю Заказчика, то есть  задавать вопросы экспертам и получать компетентные ответы на портал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rodf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также брать любую готовую информацию (то, что нужно «разжевать» клиентам ) – и в виде вопросов-ответов ставить  на сай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90680" y="1557000"/>
            <a:ext cx="39243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762120"/>
            <a:ext cx="800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кспертные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-line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консуль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557360"/>
            <a:ext cx="392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991040" y="1557360"/>
            <a:ext cx="3924360" cy="4538520"/>
            <a:chOff x="4991040" y="1557360"/>
            <a:chExt cx="3924360" cy="453852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4991040" y="1557360"/>
              <a:ext cx="3924360" cy="45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 txBox="1"/>
            <p:nvPr/>
          </p:nvSpPr>
          <p:spPr>
            <a:xfrm>
              <a:off x="4991040" y="1557360"/>
              <a:ext cx="3924360" cy="453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отоконкурсы: лояльность к бренд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1866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онтент-конкурсы: бренд + продаж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76360" y="1557360"/>
            <a:ext cx="383868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женедельные конкурсы с издательством «ЭКСМО» - более 2х лет популяр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думайте рифму, четверостишие или афоризм с заданными словами - и выиграйте кни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://www.gorodfm.ru/eksm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991040" y="3902040"/>
            <a:ext cx="3924360" cy="219384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1116000" y="1557360"/>
            <a:ext cx="3600360" cy="4537080"/>
            <a:chOff x="1116000" y="1557360"/>
            <a:chExt cx="3600360" cy="4537080"/>
          </a:xfrm>
        </p:grpSpPr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1116000" y="1557360"/>
              <a:ext cx="3600360" cy="45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 txBox="1"/>
            <p:nvPr/>
          </p:nvSpPr>
          <p:spPr>
            <a:xfrm>
              <a:off x="1116000" y="1557360"/>
              <a:ext cx="3600360" cy="453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едение тематических рассыл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1557000"/>
            <a:ext cx="8001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Сервисы почтовых рассылок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ontent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M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ail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.R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u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Subscribe.ru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отправляем рассылки с нашими анонсами, новостями и передачам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ее чем 85.000 адреса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 августа 2005 работает собственны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вис почтовых Рассылок Gorodfm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http://www.gorodfm.ru/subscribe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рассылках можно размещать Реклам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59280" y="6021360"/>
            <a:ext cx="1533240" cy="447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826920" y="6093000"/>
            <a:ext cx="1762200" cy="33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219640" y="587700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Размещение новостных лент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– Деньги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on-lin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3924360" cy="45385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990680" y="1557360"/>
            <a:ext cx="392436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нансовые новости от банка ГР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стоян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сутствуют в информационном поле Екатеринбург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на  сайте банка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rodf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БИС, Уралфир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ассылке – финансовые новости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он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нутренних страниц сайта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granbank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сс-релиз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ексты ответов на вопросы, ссылки на проекты (опросы, конкурсы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5076720" y="4365720"/>
            <a:ext cx="39243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кромные немедийные возможности для регионального рекламодателя в се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ежиме постоянной эконом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55700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это возможно? Это возможно. Региональный интернет-маркетинг по тип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носит на 5% меньше эффекта, чем полномасштабные московские решения, но при этом обходится заказчику на 95% дешевл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цифры с потолка – оценка имеет чисто иллюстрирующую эмоциональную  функци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ебует от нас – экономить деньги заказчика. И мы эконом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и решения появляются даже раньше столичных аналогов – потому что мы живем в более жестких финансовых  условиях и вынуждены выкручиваться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дключи нацию»: региональная версия Интернет-рекламы 2.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723920" y="2819520"/>
            <a:ext cx="403884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БУДЕМ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РАДЫ СОТРУДНИЧЕСТВУ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78360" y="5486400"/>
            <a:ext cx="402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катеринбург, пр-т Ленина 24, офис 543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в. отделом интернет-проектов Буторова Оксан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ефон (343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3-77-55-77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@gorodfm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23526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ромный регион и столица: сравним наши возмож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 брендовые акции в сообществ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ендовые интерактивные иг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Промо-страни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лноценных проек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тные лин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нсультации специалис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щение новостных л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ение тематических рас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ые и корпоративные б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ы поддержки лоя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аст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1. Акции в Интернет- сообщества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тест-драйва автомобильных очков от фирмы  «Очки для Вас» участниками «Автоклуба»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Ru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828800"/>
            <a:ext cx="5114880" cy="4191120"/>
          </a:xfrm>
          <a:custGeom>
            <a:avLst/>
            <a:gdLst>
              <a:gd name="textAreaLeft" fmla="*/ 0 w 5114880"/>
              <a:gd name="textAreaRight" fmla="*/ 5115240 w 5114880"/>
              <a:gd name="textAreaTop" fmla="*/ 0 h 4191120"/>
              <a:gd name="textAreaBottom" fmla="*/ 419148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2133720"/>
            <a:ext cx="374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И и ЗАДАЧИ А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 лояльность «лидеров мнений» в авто-сре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интересовать потенциальных покуп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ть возможность потенциальным покупателям сверить своё восприятие от управления автомобилем в очках с несколькими субъективными мнениям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вторитетны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людей – участников Автоклу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лонить к покуп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1844640"/>
            <a:ext cx="4038480" cy="41911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4191120"/>
              <a:gd name="textAreaBottom" fmla="*/ 419148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720" y="2133720"/>
            <a:ext cx="2950920" cy="35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АЖ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тест-драйва либо интерактивного обсуждения нужны продукты с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арантированным эффектом (заявленным качеством)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тому что участники излагают свое объективное мнение – и мы не можем на него вли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цедура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(какой механизм использовать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57000"/>
            <a:ext cx="39243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щ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ь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Автожурнале на Е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латно, 1 тыс.руб) и Текстового бло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оп.реклам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согласия руководства Автоклуба - размещ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гла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ормы для заявок на тест-драйв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фору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втоклуб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кац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тог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-драй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90680" y="1557000"/>
            <a:ext cx="392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В сообществах применим вирусный маркетинг – распространение слухов и ссылок,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</a:rPr>
              <a:t>программы поддержки для привлечения клиентов, готовых рассказывать о това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ер из жиз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ник тестирует  очки для вождения 1 СУТКИ, возвращает и получает купон-скидку 10% на автомобильные очки для себя (заказать можно в любом салоне «очки для Вас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самые активные отзывы, трем лучшим «тестерам» - очки беспл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53480"/>
            <a:ext cx="8001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57000"/>
            <a:ext cx="8001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9:36:15Z</dcterms:created>
  <dc:creator>й</dc:creator>
  <dc:description/>
  <dc:language>en-US</dc:language>
  <cp:lastModifiedBy>Буторова Оксана</cp:lastModifiedBy>
  <dcterms:modified xsi:type="dcterms:W3CDTF">2006-08-22T11:52:38Z</dcterms:modified>
  <cp:revision>491</cp:revision>
  <dc:subject/>
  <dc:title>КБ «Маркетинг-MIX»</dc:title>
</cp:coreProperties>
</file>