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1.png" ContentType="image/png"/>
  <Override PartName="/ppt/media/image49.jpeg" ContentType="image/jpeg"/>
  <Override PartName="/ppt/media/image48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69.png" ContentType="image/png"/>
  <Override PartName="/ppt/media/image14.jpeg" ContentType="image/jpeg"/>
  <Override PartName="/ppt/media/image18.jpeg" ContentType="image/jpeg"/>
  <Override PartName="/ppt/media/image24.jpeg" ContentType="image/jpeg"/>
  <Override PartName="/ppt/media/image56.jpeg" ContentType="image/jpeg"/>
  <Override PartName="/ppt/media/image15.png" ContentType="image/png"/>
  <Override PartName="/ppt/media/image3.png" ContentType="image/png"/>
  <Override PartName="/ppt/media/image36.jpeg" ContentType="image/jpeg"/>
  <Override PartName="/ppt/media/image51.jpeg" ContentType="image/jpeg"/>
  <Override PartName="/ppt/media/image71.jpeg" ContentType="image/jpeg"/>
  <Override PartName="/ppt/media/image70.png" ContentType="image/png"/>
  <Override PartName="/ppt/media/image17.jpeg" ContentType="image/jpeg"/>
  <Override PartName="/ppt/media/image50.jpeg" ContentType="image/jpeg"/>
  <Override PartName="/ppt/media/image67.png" ContentType="image/png"/>
  <Override PartName="/ppt/media/image60.jpeg" ContentType="image/jpeg"/>
  <Override PartName="/ppt/media/image20.png" ContentType="image/png"/>
  <Override PartName="/ppt/media/image37.jpeg" ContentType="image/jpeg"/>
  <Override PartName="/ppt/media/image19.jpeg" ContentType="image/jpeg"/>
  <Override PartName="/ppt/media/image16.jpeg" ContentType="image/jpeg"/>
  <Override PartName="/ppt/media/image26.jpeg" ContentType="image/jpeg"/>
  <Override PartName="/ppt/media/image23.jpeg" ContentType="image/jpeg"/>
  <Override PartName="/ppt/media/image65.png" ContentType="image/png"/>
  <Override PartName="/ppt/media/image21.jpeg" ContentType="image/jpeg"/>
  <Override PartName="/ppt/media/image63.jpeg" ContentType="image/jpeg"/>
  <Override PartName="/ppt/media/image29.png" ContentType="image/png"/>
  <Override PartName="/ppt/media/image41.jpeg" ContentType="image/jpeg"/>
  <Override PartName="/ppt/media/image66.png" ContentType="image/png"/>
  <Override PartName="/ppt/media/image12.jpeg" ContentType="image/jpeg"/>
  <Override PartName="/ppt/media/image22.jpeg" ContentType="image/jpeg"/>
  <Override PartName="/ppt/media/image64.jpeg" ContentType="image/jpeg"/>
  <Override PartName="/ppt/media/image3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40.jpeg" ContentType="image/jpeg"/>
  <Override PartName="/ppt/media/image5.png" ContentType="image/png"/>
  <Override PartName="/ppt/media/image43.jpeg" ContentType="image/jpeg"/>
  <Override PartName="/ppt/media/image8.jpeg" ContentType="image/jpeg"/>
  <Override PartName="/ppt/media/image44.jpeg" ContentType="image/jpeg"/>
  <Override PartName="/ppt/media/image38.png" ContentType="image/pn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5.jpeg" ContentType="image/jpeg"/>
  <Override PartName="/ppt/media/image46.png" ContentType="image/png"/>
  <Override PartName="/ppt/media/image68.png" ContentType="image/png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14E-6B5B-49A1-96ED-01EE6730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68000" y="1206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596840"/>
            <a:ext cx="82296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BA4-2D92-4156-885F-7CFCC982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68000" y="1206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40158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924280"/>
            <a:ext cx="40158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96840"/>
            <a:ext cx="40158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596840"/>
            <a:ext cx="40158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74A-35E4-49CF-8DA7-50803D7C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68000" y="1206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26496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924280"/>
            <a:ext cx="26496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924280"/>
            <a:ext cx="26496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596840"/>
            <a:ext cx="26496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596840"/>
            <a:ext cx="26496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596840"/>
            <a:ext cx="26496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2CC-AB85-4066-B0B8-81D914CE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206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7FE-E42D-48FC-B065-6D499097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206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E2E-E7BD-4F39-B631-37F3B10F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68000" y="1206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40158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924280"/>
            <a:ext cx="40158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0C3-5364-44BE-894A-249D689F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206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D0E-EA8E-430A-BF5F-71E5B993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68000" y="1206000"/>
            <a:ext cx="6347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071-5FFC-4900-8516-5A7E1E8D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68000" y="1206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40158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924280"/>
            <a:ext cx="40158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596840"/>
            <a:ext cx="40158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04C-24A0-46B9-A7A6-6AA1F5C1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68000" y="1206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40158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924280"/>
            <a:ext cx="40158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596840"/>
            <a:ext cx="40158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14B-DAB0-400A-811D-84622193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68000" y="1206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40158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924280"/>
            <a:ext cx="40158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596840"/>
            <a:ext cx="82296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193-F752-4233-AAA6-48975E90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0" y="1206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D4E9-E2A3-4CCA-9FFA-8A8BEF86C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9280" y="-27000"/>
            <a:ext cx="2156040" cy="1778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484360" y="33480"/>
            <a:ext cx="66596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сероссийский Интернет-МАРАФОН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006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ИФ-УРА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3 августа 2006 года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. ЕКАТЕРИН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hyperlink" Target="http://sem102.rocit.ru/img/photo/026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sem102.rocit.ru/img/photo/020.jpg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sem102.rocit.ru/img/photo/021.jpg" TargetMode="Externa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internetmarafon.ru/regions/kazan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internetmarafon.ru/regions/omsk/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www.goldweb.org/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dvif.ru/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sterh.dvif.ru/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netconf.ru/2006/" TargetMode="External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3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2006.it-russia.ru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6480"/>
            <a:ext cx="925200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ffffff"/>
                </a:solidFill>
                <a:latin typeface="Arial"/>
              </a:rPr>
              <a:t>Интернет-МАРАФОН</a:t>
            </a:r>
            <a:br>
              <a:rPr sz="6000"/>
            </a:br>
            <a:r>
              <a:rPr b="0" lang="en-US" sz="12000" spc="-1" strike="noStrike">
                <a:solidFill>
                  <a:srgbClr val="ffffff"/>
                </a:solidFill>
                <a:latin typeface="Arial"/>
              </a:rPr>
              <a:t>2006</a:t>
            </a:r>
            <a:br>
              <a:rPr sz="3000"/>
            </a:b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-27000"/>
            <a:ext cx="9144000" cy="31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-541440" y="-33480"/>
          <a:ext cx="9685440" cy="31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-33480"/>
                    <a:ext cx="9685440" cy="31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2332080"/>
            <a:ext cx="80280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0000"/>
                </a:solidFill>
                <a:latin typeface="Arial"/>
              </a:rPr>
              <a:t>Всероссийский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4648320"/>
            <a:ext cx="4427640" cy="1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ЕКАТЕРИНБУРГ</a:t>
            </a:r>
            <a:br>
              <a:rPr sz="22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альский Федеральный 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3 августа 2006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www.InternetMarafon.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429264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640872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-МАРАФОН пройдет в период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апреля по октябрь 2006 года во всех  </a:t>
            </a:r>
            <a:br>
              <a:rPr sz="24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7 Федеральных округах Р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о-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олж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би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11280" y="1628640"/>
            <a:ext cx="65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ГЕОГРАФИЯ </a:t>
            </a:r>
            <a:br>
              <a:rPr sz="36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(продолжение)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98560" y="1743120"/>
            <a:ext cx="7488360" cy="4365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1880" y="5157000"/>
            <a:ext cx="489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9280" rIns="568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нтральный Федеральный округ</a:t>
            </a:r>
            <a:br>
              <a:rPr sz="1800"/>
            </a:b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МОСК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7 апреля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878040" y="4524480"/>
            <a:ext cx="598320" cy="18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638172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1120" y="1700280"/>
            <a:ext cx="666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География Интернет-МАРАФ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Старт Интернет-МАРАФОНА и Круглый стол РОЦИТ «Интернет в регионах РФ: феодальная зависимость, подражание центру, собственный путь?..»"/>
          <p:cNvPicPr/>
          <p:nvPr/>
        </p:nvPicPr>
        <p:blipFill>
          <a:blip r:embed="rId2"/>
          <a:stretch/>
        </p:blipFill>
        <p:spPr>
          <a:xfrm>
            <a:off x="5435640" y="4149720"/>
            <a:ext cx="3573360" cy="25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Старт Интернет-МАРАФОНА и Круглый стол РОЦИТ «Интернет в регионах РФ: феодальная зависимость, подражание центру, собственный путь?..»"/>
          <p:cNvPicPr/>
          <p:nvPr/>
        </p:nvPicPr>
        <p:blipFill>
          <a:blip r:embed="rId1"/>
          <a:stretch/>
        </p:blipFill>
        <p:spPr>
          <a:xfrm>
            <a:off x="324000" y="2060640"/>
            <a:ext cx="3573360" cy="25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" descr="Марк ТВЕРДЫНИН, РОЦИТ (слева) вручает Кубок Интернет-МАРАФОНА Айнуру СИБГАТУЛЛИНУ (справа)"/>
          <p:cNvPicPr/>
          <p:nvPr/>
        </p:nvPicPr>
        <p:blipFill>
          <a:blip r:embed="rId2"/>
          <a:stretch/>
        </p:blipFill>
        <p:spPr>
          <a:xfrm>
            <a:off x="324000" y="4954680"/>
            <a:ext cx="238104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" descr="Сергей ПЛУГОТАРЕНКО, РОЦИТ (справа)"/>
          <p:cNvPicPr/>
          <p:nvPr/>
        </p:nvPicPr>
        <p:blipFill>
          <a:blip r:embed="rId3"/>
          <a:stretch/>
        </p:blipFill>
        <p:spPr>
          <a:xfrm>
            <a:off x="3348000" y="4954680"/>
            <a:ext cx="238140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" descr="Юрий ШАРОВ, Совет Федерации Федерального Собрания РФ"/>
          <p:cNvPicPr/>
          <p:nvPr/>
        </p:nvPicPr>
        <p:blipFill>
          <a:blip r:embed="rId4"/>
          <a:stretch/>
        </p:blipFill>
        <p:spPr>
          <a:xfrm>
            <a:off x="6300720" y="4941720"/>
            <a:ext cx="238140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24720" y="2494080"/>
            <a:ext cx="1289160" cy="172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-171720"/>
            <a:ext cx="8497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Старт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Интернет-МАРАФОНА</a:t>
            </a:r>
            <a:br>
              <a:rPr sz="40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7 апреля 2006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9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03920" y="2492280"/>
            <a:ext cx="128916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11640" y="2492280"/>
            <a:ext cx="128916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98560" y="1728720"/>
            <a:ext cx="7488360" cy="4365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1402920" y="4799160"/>
            <a:ext cx="79236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652608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90160" y="5328720"/>
            <a:ext cx="488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9280" rIns="568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олжский Федеральный округ</a:t>
            </a:r>
            <a:br>
              <a:rPr sz="1800"/>
            </a:b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КАЗА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7-19 мая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ЗАНЬ: Всероссийский Интернет-МАРАФО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4797360"/>
            <a:ext cx="238140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2481120" y="1700280"/>
            <a:ext cx="666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География Интернет-МАРАФ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-171720"/>
            <a:ext cx="8497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Интернет-МАРАФОН в </a:t>
            </a:r>
            <a:r>
              <a:rPr b="0" lang="en-US" sz="4000" spc="-1" strike="noStrike" u="sng">
                <a:solidFill>
                  <a:srgbClr val="000066"/>
                </a:solidFill>
                <a:uFillTx/>
                <a:latin typeface="Arial Black"/>
              </a:rPr>
              <a:t>КАЗАНИ</a:t>
            </a:r>
            <a:br>
              <a:rPr sz="40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7-19 мая 2006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103640" cy="27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4941720"/>
            <a:ext cx="2664000" cy="177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050920" y="4292640"/>
            <a:ext cx="2664000" cy="177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59280" y="1844640"/>
            <a:ext cx="414036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98560" y="1773360"/>
            <a:ext cx="7488360" cy="4365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64640" y="5228640"/>
            <a:ext cx="457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9280" rIns="568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бирский Федеральный округ</a:t>
            </a:r>
            <a:br>
              <a:rPr sz="1800"/>
            </a:b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ОМС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8-19 мая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5157720"/>
            <a:ext cx="3384720" cy="13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64990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ОМСК: Всероссийский Интернет-МАРАФО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5027760"/>
            <a:ext cx="2381400" cy="1714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3716280"/>
            <a:ext cx="952560" cy="11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2481120" y="1700280"/>
            <a:ext cx="666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География Интернет-МАРАФ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-171720"/>
            <a:ext cx="8497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Интернет-МАРАФОН в </a:t>
            </a:r>
            <a:r>
              <a:rPr b="0" lang="en-US" sz="4000" spc="-1" strike="noStrike" u="sng">
                <a:solidFill>
                  <a:srgbClr val="000066"/>
                </a:solidFill>
                <a:uFillTx/>
                <a:latin typeface="Arial Black"/>
              </a:rPr>
              <a:t>ОМСКЕ</a:t>
            </a:r>
            <a:br>
              <a:rPr sz="40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8-19 мая 2006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5040360" cy="37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348000" y="4941720"/>
            <a:ext cx="238140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4960" y="4941720"/>
            <a:ext cx="238140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Александр АЙГИСТОВ и Сергей ПЛУГОТАРЕНКО (РОЦИТ)"/>
          <p:cNvPicPr/>
          <p:nvPr/>
        </p:nvPicPr>
        <p:blipFill>
          <a:blip r:embed="rId4"/>
          <a:stretch/>
        </p:blipFill>
        <p:spPr>
          <a:xfrm>
            <a:off x="6227640" y="1700280"/>
            <a:ext cx="238140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227640" y="4941720"/>
            <a:ext cx="238140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4716360" y="2997360"/>
            <a:ext cx="238140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98560" y="1727280"/>
            <a:ext cx="7488360" cy="4365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8600" y="5300280"/>
            <a:ext cx="566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9280" rIns="568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льневосточный Федеральный округ</a:t>
            </a:r>
            <a:br>
              <a:rPr sz="1800"/>
            </a:b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ХАБАРОВС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3-28 мая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88000" y="4653000"/>
            <a:ext cx="1800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6524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5448240"/>
            <a:ext cx="952560" cy="140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5805360"/>
            <a:ext cx="95256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2481120" y="1700280"/>
            <a:ext cx="666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География Интернет-МАРАФ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-171720"/>
            <a:ext cx="8497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Интернет-МАРАФОН в </a:t>
            </a:r>
            <a:r>
              <a:rPr b="0" lang="en-US" sz="4000" spc="-1" strike="noStrike" u="sng">
                <a:solidFill>
                  <a:srgbClr val="000066"/>
                </a:solidFill>
                <a:uFillTx/>
                <a:latin typeface="Arial Black"/>
              </a:rPr>
              <a:t>ХАБАРОВСКЕ</a:t>
            </a:r>
            <a:br>
              <a:rPr sz="40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3-28 мая 2006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2219400"/>
            <a:ext cx="238104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76720" y="2219400"/>
            <a:ext cx="238104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" descr="Хабаровск"/>
          <p:cNvPicPr/>
          <p:nvPr/>
        </p:nvPicPr>
        <p:blipFill>
          <a:blip r:embed="rId3"/>
          <a:stretch/>
        </p:blipFill>
        <p:spPr>
          <a:xfrm>
            <a:off x="395280" y="4662360"/>
            <a:ext cx="1523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" descr="Хабаровск"/>
          <p:cNvPicPr/>
          <p:nvPr/>
        </p:nvPicPr>
        <p:blipFill>
          <a:blip r:embed="rId4"/>
          <a:stretch/>
        </p:blipFill>
        <p:spPr>
          <a:xfrm>
            <a:off x="2340000" y="4662360"/>
            <a:ext cx="1523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Хабаровск"/>
          <p:cNvPicPr/>
          <p:nvPr/>
        </p:nvPicPr>
        <p:blipFill>
          <a:blip r:embed="rId5"/>
          <a:stretch/>
        </p:blipFill>
        <p:spPr>
          <a:xfrm>
            <a:off x="4356000" y="4662360"/>
            <a:ext cx="152424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" descr="Хабаровск"/>
          <p:cNvPicPr/>
          <p:nvPr/>
        </p:nvPicPr>
        <p:blipFill>
          <a:blip r:embed="rId6"/>
          <a:stretch/>
        </p:blipFill>
        <p:spPr>
          <a:xfrm>
            <a:off x="6372360" y="4662360"/>
            <a:ext cx="1523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98560" y="1743120"/>
            <a:ext cx="7488360" cy="4365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45320" y="5228640"/>
            <a:ext cx="7850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9280" rIns="568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еверо-западный Федеральный округ</a:t>
            </a:r>
            <a:br>
              <a:rPr sz="1800"/>
            </a:b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Санкт-ПЕТЕРБУР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0-31 мая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826920" y="3876840"/>
            <a:ext cx="1324080" cy="25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6453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381400" cy="1219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481120" y="1700280"/>
            <a:ext cx="666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География Интернет-МАРАФ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48000" y="2133720"/>
            <a:ext cx="6804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Доклад </a:t>
            </a:r>
            <a:br>
              <a:rPr sz="30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ергея Александровича  ПЛУГОТАРЕНКО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ервого заместителя директора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РО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Координатора Фестиваля региональных интернет-проектов «Новая реальност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24720" y="357336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20066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-171720"/>
            <a:ext cx="8497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Интернет-МАРАФОН в </a:t>
            </a:r>
            <a:r>
              <a:rPr b="0" lang="en-US" sz="4000" spc="-1" strike="noStrike" u="sng">
                <a:solidFill>
                  <a:srgbClr val="000066"/>
                </a:solidFill>
                <a:uFillTx/>
                <a:latin typeface="Arial Black"/>
              </a:rPr>
              <a:t>САНКТ-ПЕТЕРБУРГЕ</a:t>
            </a:r>
            <a:br>
              <a:rPr sz="40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0-31 мая 2006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51" name="" descr="Сергей ПЛУГОТАРЕНКО, Александр АЙГИСТОВ, Роман ГАНЦЕВИЧ (Всероссийский Интернет-МАРАФОН в Санкт-Петербурге)"/>
          <p:cNvPicPr/>
          <p:nvPr/>
        </p:nvPicPr>
        <p:blipFill>
          <a:blip r:embed="rId1"/>
          <a:stretch/>
        </p:blipFill>
        <p:spPr>
          <a:xfrm>
            <a:off x="468360" y="4610160"/>
            <a:ext cx="23810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" descr="Всероссийский Интернет-МАРАФОН и Конференция &quot;Интернет и реклама&quot;: пленарное заседание 31 мая 2006 года"/>
          <p:cNvPicPr/>
          <p:nvPr/>
        </p:nvPicPr>
        <p:blipFill>
          <a:blip r:embed="rId2"/>
          <a:stretch/>
        </p:blipFill>
        <p:spPr>
          <a:xfrm>
            <a:off x="5651640" y="1844640"/>
            <a:ext cx="2857320" cy="21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" descr="Северо-Западный Интернет-МАРАФОН и Конференция &quot;Интернет и реклама&quot;: открытие"/>
          <p:cNvPicPr/>
          <p:nvPr/>
        </p:nvPicPr>
        <p:blipFill>
          <a:blip r:embed="rId3"/>
          <a:stretch/>
        </p:blipFill>
        <p:spPr>
          <a:xfrm>
            <a:off x="635040" y="1844640"/>
            <a:ext cx="28573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4" name="" descr="Закрытие Интернет-МАРАФОНА в Санкт-Петербурге: итоговый круглый стол"/>
          <p:cNvPicPr/>
          <p:nvPr/>
        </p:nvPicPr>
        <p:blipFill>
          <a:blip r:embed="rId4"/>
          <a:stretch/>
        </p:blipFill>
        <p:spPr>
          <a:xfrm>
            <a:off x="3276720" y="4633920"/>
            <a:ext cx="2381040" cy="17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" descr="Северо-Западный Интернет-МАРАФОН: Соня Соколова и компания"/>
          <p:cNvPicPr/>
          <p:nvPr/>
        </p:nvPicPr>
        <p:blipFill>
          <a:blip r:embed="rId5"/>
          <a:stretch/>
        </p:blipFill>
        <p:spPr>
          <a:xfrm>
            <a:off x="6084720" y="4581360"/>
            <a:ext cx="2381400" cy="17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" descr="Переходящий Кубок Интернет-МАРАФОНА: вручает Александр АЙГИСТОВ, принимает Роман ГАНЦЕВИЧ (Санкт-Петербург)"/>
          <p:cNvPicPr/>
          <p:nvPr/>
        </p:nvPicPr>
        <p:blipFill>
          <a:blip r:embed="rId6"/>
          <a:stretch/>
        </p:blipFill>
        <p:spPr>
          <a:xfrm>
            <a:off x="3774960" y="2565360"/>
            <a:ext cx="2381400" cy="168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98560" y="1728720"/>
            <a:ext cx="7488360" cy="4365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1402920" y="4799160"/>
            <a:ext cx="792360" cy="165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6453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90160" y="5228640"/>
            <a:ext cx="4887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9280" rIns="568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олжский Федеральный округ</a:t>
            </a:r>
            <a:br>
              <a:rPr sz="1800"/>
            </a:b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САМА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9 июня – 2 июля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NETCON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9080" y="3284640"/>
            <a:ext cx="6191280" cy="780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481120" y="1700280"/>
            <a:ext cx="666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География Интернет-МАРАФ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Андрей САННИКОВ принял переходящий Кубок Интернет-МАРАФОНА от имени Самарской области"/>
          <p:cNvPicPr/>
          <p:nvPr/>
        </p:nvPicPr>
        <p:blipFill>
          <a:blip r:embed="rId4"/>
          <a:stretch/>
        </p:blipFill>
        <p:spPr>
          <a:xfrm>
            <a:off x="6084720" y="4149720"/>
            <a:ext cx="17146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-171720"/>
            <a:ext cx="8497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Интернет-МАРАФОН в </a:t>
            </a:r>
            <a:br>
              <a:rPr sz="3600"/>
            </a:br>
            <a:r>
              <a:rPr b="0" lang="en-US" sz="3600" spc="-1" strike="noStrike" u="sng">
                <a:solidFill>
                  <a:srgbClr val="000066"/>
                </a:solidFill>
                <a:uFillTx/>
                <a:latin typeface="Arial Black"/>
              </a:rPr>
              <a:t>САМАРЕ И САМАРСКОЙ ОБЛ.</a:t>
            </a:r>
            <a:br>
              <a:rPr sz="36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9 июня – 2 июля 2006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67" name="" descr="Андрей САННИКОВ принял переходящий Кубок Интернет-МАРАФОНА от имени Самарской области"/>
          <p:cNvPicPr/>
          <p:nvPr/>
        </p:nvPicPr>
        <p:blipFill>
          <a:blip r:embed="rId1"/>
          <a:stretch/>
        </p:blipFill>
        <p:spPr>
          <a:xfrm>
            <a:off x="6227640" y="1773360"/>
            <a:ext cx="17146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6560" y="2278080"/>
            <a:ext cx="238140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9" name="" descr="Заместитель Полномочного представителя в ПФО Георгий МАТЮШКИН осматривает экспозицию выставки"/>
          <p:cNvPicPr/>
          <p:nvPr/>
        </p:nvPicPr>
        <p:blipFill>
          <a:blip r:embed="rId3"/>
          <a:stretch/>
        </p:blipFill>
        <p:spPr>
          <a:xfrm>
            <a:off x="3343320" y="2349360"/>
            <a:ext cx="238104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66560" y="4653000"/>
            <a:ext cx="238140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343320" y="4653000"/>
            <a:ext cx="23810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" descr="Торжественный старт научно-практической части конференции &quot;Интернет и Электронный округ. 2006&quot;"/>
          <p:cNvPicPr/>
          <p:nvPr/>
        </p:nvPicPr>
        <p:blipFill>
          <a:blip r:embed="rId6"/>
          <a:stretch/>
        </p:blipFill>
        <p:spPr>
          <a:xfrm>
            <a:off x="6222960" y="4653000"/>
            <a:ext cx="2381400" cy="17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98560" y="1773360"/>
            <a:ext cx="7488360" cy="4365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920" y="5228640"/>
            <a:ext cx="830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9280" rIns="568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бирский Федеральный округ</a:t>
            </a:r>
            <a:br>
              <a:rPr sz="1800"/>
            </a:b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АЛТАЙСКИЙ КР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6-21 июля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5130720"/>
            <a:ext cx="2592360" cy="132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6453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1120" y="1700280"/>
            <a:ext cx="666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География Интернет-МАРАФ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156360" y="2781360"/>
            <a:ext cx="238104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-171720"/>
            <a:ext cx="8497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Интернет-МАРАФОН в </a:t>
            </a:r>
            <a:r>
              <a:rPr b="0" lang="en-US" sz="4000" spc="-1" strike="noStrike" u="sng">
                <a:solidFill>
                  <a:srgbClr val="000066"/>
                </a:solidFill>
                <a:uFillTx/>
                <a:latin typeface="Arial Black"/>
              </a:rPr>
              <a:t>АЛАЙТСКОМ  КРАЕ</a:t>
            </a:r>
            <a:br>
              <a:rPr sz="40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6-21 июля 2006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38104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332000" y="4581360"/>
            <a:ext cx="1428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332000" y="1989000"/>
            <a:ext cx="2381040" cy="166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2987640" y="2708280"/>
            <a:ext cx="238140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4500720" y="4149720"/>
            <a:ext cx="23810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98560" y="1727280"/>
            <a:ext cx="7488360" cy="4365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001880" y="5228640"/>
            <a:ext cx="579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9280" rIns="568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Южный Федеральный округ</a:t>
            </a:r>
            <a:br>
              <a:rPr sz="1800"/>
            </a:b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КРАСНОДА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7-30 июля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6560" y="5443560"/>
            <a:ext cx="36036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6453360"/>
            <a:ext cx="55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81120" y="1700280"/>
            <a:ext cx="666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География Интернет-МАРАФ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176720" cy="25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-171720"/>
            <a:ext cx="8497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Интернет-МАРАФОН в </a:t>
            </a:r>
            <a:r>
              <a:rPr b="0" lang="en-US" sz="4000" spc="-1" strike="noStrike" u="sng">
                <a:solidFill>
                  <a:srgbClr val="000066"/>
                </a:solidFill>
                <a:uFillTx/>
                <a:latin typeface="Arial Black"/>
              </a:rPr>
              <a:t>КРАСНОДАРЕ</a:t>
            </a:r>
            <a:br>
              <a:rPr sz="40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7-30 июля 2006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176720" cy="25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24000" y="4724280"/>
            <a:ext cx="2381040" cy="184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12040" y="4768920"/>
            <a:ext cx="2381040" cy="168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414600" y="4768920"/>
            <a:ext cx="2381400" cy="172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6654960" y="1557360"/>
            <a:ext cx="238104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716360" y="2527200"/>
            <a:ext cx="2381400" cy="183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98560" y="1700280"/>
            <a:ext cx="7488360" cy="4365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>
            <a:off x="1908000" y="4481640"/>
            <a:ext cx="1368720" cy="189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6380280"/>
            <a:ext cx="72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41520" y="5157000"/>
            <a:ext cx="6940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9280" rIns="568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ральский Федеральный округ</a:t>
            </a:r>
            <a:br>
              <a:rPr sz="1800"/>
            </a:b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ЕКАТЕРИНБУР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3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вгуста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81120" y="1700280"/>
            <a:ext cx="666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География Интернет-МАРАФ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084720" y="2637000"/>
            <a:ext cx="771840" cy="771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093080" y="2708280"/>
            <a:ext cx="1143000" cy="714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084720" y="3789360"/>
            <a:ext cx="1143000" cy="162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6084720" y="4292640"/>
            <a:ext cx="1143000" cy="66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7596360" y="4292640"/>
            <a:ext cx="115236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98560" y="1700280"/>
            <a:ext cx="7488360" cy="4365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H="1">
            <a:off x="250560" y="4481640"/>
            <a:ext cx="3025800" cy="19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6380280"/>
            <a:ext cx="88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8200" y="5125320"/>
            <a:ext cx="8583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9280" rIns="568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ральский Федеральный округ</a:t>
            </a:r>
            <a:br>
              <a:rPr sz="1800"/>
            </a:b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ХАНТЫ-МАНСИЙС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1-22 сентября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1120" y="1700280"/>
            <a:ext cx="666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География Интернет-МАРАФ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Ханты-Мансийский автономный округ"/>
          <p:cNvPicPr/>
          <p:nvPr/>
        </p:nvPicPr>
        <p:blipFill>
          <a:blip r:embed="rId2"/>
          <a:stretch/>
        </p:blipFill>
        <p:spPr>
          <a:xfrm>
            <a:off x="3635280" y="3933720"/>
            <a:ext cx="905040" cy="10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11280" y="1844640"/>
            <a:ext cx="65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ИТОГИ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Интернет-МАРАФОНА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3213000"/>
            <a:ext cx="6732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нтябрь 2006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СКВА, ИТАР-Т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жегодная отчетная пресс-конференция </a:t>
            </a:r>
            <a:br>
              <a:rPr sz="22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УНЕТ – 2006.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тоги года: региональный акце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1000"/>
            </a:br>
            <a:br>
              <a:rPr sz="10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.В.Сеславинский</a:t>
            </a:r>
            <a:br>
              <a:rPr sz="2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ководитель Федерального агентства по печати и массовым коммуникац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30686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11280" y="342900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российский Интернет-МАРАФО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никальный проект, идея которого возникла в ходе прошедшего в марте с.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Ф-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 итогам работы его специализированного регионального бло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Дни Регионов РФ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10920" y="1917720"/>
            <a:ext cx="69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Общая информация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3568680"/>
            <a:ext cx="640872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ктябрь 200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СКВА, РИА-НОВ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ведение итогов Фестиваля региональных интернет-проектов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«НОВАЯ РЕАЛЬНОСТЬ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финал), интерактивный телемост с регионами, совместно с компанией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«ТрансТелеКом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11280" y="1917720"/>
            <a:ext cx="65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ФИНАЛ </a:t>
            </a:r>
            <a:br>
              <a:rPr sz="36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Фестиваля «Новая реальность»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2484360" y="31417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Фестиваль интернет-проектов &quot;Новая реальность&quot;"/>
          <p:cNvPicPr/>
          <p:nvPr/>
        </p:nvPicPr>
        <p:blipFill>
          <a:blip r:embed="rId1"/>
          <a:stretch/>
        </p:blipFill>
        <p:spPr>
          <a:xfrm>
            <a:off x="468360" y="5445000"/>
            <a:ext cx="148572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35344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2254320"/>
            <a:ext cx="86421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Arial"/>
              </a:rPr>
              <a:t>Следите </a:t>
            </a:r>
            <a:br>
              <a:rPr sz="5000"/>
            </a:br>
            <a:r>
              <a:rPr b="0" lang="ru-RU" sz="5000" spc="-1" strike="noStrike">
                <a:solidFill>
                  <a:srgbClr val="000066"/>
                </a:solidFill>
                <a:latin typeface="Arial"/>
              </a:rPr>
              <a:t>за подробностями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66"/>
                </a:solidFill>
                <a:uFillTx/>
                <a:latin typeface="Arial"/>
              </a:rPr>
              <a:t>www.internetMARAFON.r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635280" y="3284640"/>
            <a:ext cx="1903680" cy="1903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50920" y="765000"/>
            <a:ext cx="8642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 Black"/>
              </a:rPr>
              <a:t>СПАСИБО </a:t>
            </a:r>
            <a:br>
              <a:rPr sz="5000"/>
            </a:br>
            <a:r>
              <a:rPr b="0" lang="en-US" sz="5000" spc="-1" strike="noStrike">
                <a:solidFill>
                  <a:srgbClr val="000066"/>
                </a:solidFill>
                <a:latin typeface="Arial Black"/>
              </a:rPr>
              <a:t>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53420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егиональный Общественный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Центр Интернет-Технологий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РОЦИ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976480"/>
            <a:ext cx="925200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ffffff"/>
                </a:solidFill>
                <a:latin typeface="Arial"/>
              </a:rPr>
              <a:t>Интернет-МАРАФОН</a:t>
            </a:r>
            <a:br>
              <a:rPr sz="6000"/>
            </a:br>
            <a:r>
              <a:rPr b="0" lang="en-US" sz="12000" spc="-1" strike="noStrike">
                <a:solidFill>
                  <a:srgbClr val="ffffff"/>
                </a:solidFill>
                <a:latin typeface="Arial"/>
              </a:rPr>
              <a:t>2006</a:t>
            </a:r>
            <a:br>
              <a:rPr sz="3000"/>
            </a:b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-27000"/>
            <a:ext cx="9144000" cy="31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541440" y="-33480"/>
          <a:ext cx="9685440" cy="31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-33480"/>
                    <a:ext cx="9685440" cy="31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2332080"/>
            <a:ext cx="80280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0000"/>
                </a:solidFill>
                <a:latin typeface="Arial"/>
              </a:rPr>
              <a:t>Всероссийский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4648320"/>
            <a:ext cx="4427640" cy="1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ЕКАТЕРИНБУРГ</a:t>
            </a:r>
            <a:br>
              <a:rPr sz="22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альский Федеральный 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3 августа 2006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www.InternetMarafon.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25800" y="429264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11280" y="3213000"/>
            <a:ext cx="5978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РГАНИЗАТОР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ГИОНАЛЬНЫЙ ОБЩЕСТВЕННЫЙ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 ИНТЕРНЕТ-ТЕХНОЛОГИЙ (РОЦИ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10920" y="1917720"/>
            <a:ext cx="69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Организатор и патронат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5019840"/>
            <a:ext cx="5759640" cy="1217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84360" y="5302080"/>
            <a:ext cx="4608720" cy="11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09840" y="5013360"/>
            <a:ext cx="5978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АТРОНА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ДЕРАЛЬНОЕ АГЕНТСТВО ПО ПЕЧАТИ И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ССОВЫМ КОММУНИКАЦ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11280" y="1628640"/>
            <a:ext cx="65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Цели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Интернет-МАРАФОНА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2997360"/>
            <a:ext cx="640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йствие в реализации Национальных проектов РФ в области информат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уляризация интернет-технологий в российских регион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опытом в интернет-сфере на региональном уро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ная связь и постоянный диалог с регионами по интернет-проблема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11280" y="1917720"/>
            <a:ext cx="65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Базис Фестиваля «НОВАЯ РЕАЛЬНОСТЬ»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3460680"/>
            <a:ext cx="6732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нтернет-МАРАФОН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азис для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российского Фестиваля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гиональных интернет-проектов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НОВАЯ РЕАЛЬНОСТ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Фестиваль интернет-проектов &quot;Новая реальность&quot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8280" y="4956120"/>
            <a:ext cx="148572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11280" y="1628640"/>
            <a:ext cx="65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МЕРОПРИЯТИЯ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2604960"/>
            <a:ext cx="6732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роприятия, проводимые в регионах в рамк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тернет-МАРАФОНА, включают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ЕСС-КОНФЕР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РУГЛЫЕ СТ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ЕМИНАРЫ И МАСТЕР-КЛАС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ПРОСЫ И ИССЛЕД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 также региональные специальные мероприятия в рамках подготовки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естиваля «Новая реальност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73200" y="2205000"/>
            <a:ext cx="673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период апрель-сент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нет-МАРАФОН пройдет во всех </a:t>
            </a:r>
            <a:br>
              <a:rPr sz="36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7 (семи)</a:t>
            </a:r>
            <a:r>
              <a:rPr b="1" lang="ru-RU" sz="1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едеральных округах РФ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84360" y="5518080"/>
            <a:ext cx="46087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11280" y="2492280"/>
            <a:ext cx="6553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ГЕОГРАФИЯ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Интернет-МАРАФОНА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8:26:29Z</dcterms:created>
  <dc:creator>Serge A PLUGOTARENKO</dc:creator>
  <dc:description/>
  <dc:language>en-US</dc:language>
  <cp:lastModifiedBy>Serge A PLUGOTARENKO</cp:lastModifiedBy>
  <dcterms:modified xsi:type="dcterms:W3CDTF">2006-08-20T13:23:16Z</dcterms:modified>
  <cp:revision>82</cp:revision>
  <dc:subject/>
  <dc:title>КРУГЛЫЙ СТОЛ  РУКОВОДИТЕЛЕЙ  ИНТЕРНЕТ-ПРОЕКТОВ ПО СОЦИАЛЬНОЙ ПРОБЛЕМАТИКЕ,  получивших субсидии  Федерального агентства по печати и массовым коммуникациям в области электронных СМИ http://2005.artstyle.net   г. Москва ИИТО ЮНЕСКО 19 апреля 2005 года</dc:title>
</cp:coreProperties>
</file>