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484360" y="33480"/>
            <a:ext cx="66596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сероссийский Интернет-МАРАФОН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006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ИФ-УРА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3 августа 2006 года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 ЕКАТЕРИН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9280" y="-27000"/>
            <a:ext cx="2156040" cy="17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000" y="1206000"/>
            <a:ext cx="63471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27000"/>
            <a:ext cx="9144000" cy="688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68280"/>
            <a:ext cx="914400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16360" y="1306440"/>
            <a:ext cx="3313080" cy="2732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-27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Материалы 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-го Российского Интернет Форума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РИФ-2006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00536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Российский интернет: </a:t>
            </a:r>
            <a:br>
              <a:rPr sz="6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тоги 2005 и первой половины 20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9080" y="6021360"/>
            <a:ext cx="75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лад Александра Анатольевича АЙГИСТОВА (РОЦИТ)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ходе Всероссийского Интернет-МАРАФОНА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густа 2006 года, г. ЕКАТЕРИНБУР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5280" y="2822400"/>
          <a:ext cx="8575560" cy="37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822400"/>
                    <a:ext cx="8575560" cy="37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6920" y="190008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инамика роста интернет-аудитории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% использующих интернет (данны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OMIR Monitoring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24240" y="2004840"/>
            <a:ext cx="6395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lang="en-US" sz="3000" spc="-1" strike="noStrike" u="sng">
                <a:solidFill>
                  <a:srgbClr val="000099"/>
                </a:solidFill>
                <a:uFillTx/>
                <a:latin typeface="Arial"/>
              </a:rPr>
              <a:t>ПРОГНОЗЫ НА 2006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о прогнозам число интернет-пользователей к концу 2006 году увеличится по состоянию с 2005 годом н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 млн. человек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и составит около </a:t>
            </a:r>
            <a:br>
              <a:rPr sz="26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6 млн. человек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(по данным фонда «Общественное мнение»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24240" y="2004840"/>
            <a:ext cx="671976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МЕСТО ИНТЕРНЕТА </a:t>
            </a:r>
            <a:r>
              <a:rPr b="1" lang="ru-RU" sz="2600" spc="-1" strike="noStrike" u="sng">
                <a:solidFill>
                  <a:srgbClr val="000099"/>
                </a:solidFill>
                <a:uFillTx/>
                <a:latin typeface="Arial"/>
              </a:rPr>
              <a:t>в жизни</a:t>
            </a:r>
            <a:br>
              <a:rPr sz="2600"/>
            </a:b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600" spc="-1" strike="noStrike" u="sng">
                <a:solidFill>
                  <a:srgbClr val="000099"/>
                </a:solidFill>
                <a:uFillTx/>
                <a:latin typeface="Arial"/>
              </a:rPr>
              <a:t>среднестатистического россиян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нтернет занимает внимание россиян в среднем </a:t>
            </a:r>
            <a:br>
              <a:rPr sz="2000"/>
            </a:b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минут в день </a:t>
            </a:r>
            <a:br>
              <a:rPr sz="3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в пересчете на все население РФ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и этом средне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лесмотрения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ставляет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3 часа 36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радиопрослушиван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3 часа 48 минут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чтение газет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уходит в среднем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12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журналы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тратится в среднем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6 минут в 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24240" y="2004840"/>
            <a:ext cx="67197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lang="ru-RU" sz="2600" spc="-1" strike="noStrike" u="sng">
                <a:solidFill>
                  <a:srgbClr val="000099"/>
                </a:solidFill>
                <a:uFillTx/>
                <a:latin typeface="Arial"/>
              </a:rPr>
              <a:t>СОЦИАЛЬНО-ДЕМОГРАФИЧЕСКИЕ </a:t>
            </a:r>
            <a:br>
              <a:rPr sz="2600"/>
            </a:b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600" spc="-1" strike="noStrike" u="sng">
                <a:solidFill>
                  <a:srgbClr val="000099"/>
                </a:solidFill>
                <a:uFillTx/>
                <a:latin typeface="Arial"/>
              </a:rPr>
              <a:t>ХАРАКТЕРИСТ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нтернет  в России более распространен среди мужчин, чем среди женщ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казатели 2005 г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4% пользователей среди женщ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21% среди муж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нтернетчики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старше 25 лет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льзуются интернетом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более активно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, чем молодые (до 24 л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03280" y="215100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%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льзователей интернета среди мужчин и женщин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данные: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OMIR Monitoring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95280" y="3332160"/>
          <a:ext cx="80438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2160"/>
                    <a:ext cx="80438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24240" y="2660760"/>
            <a:ext cx="6719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Интернетчики </a:t>
            </a:r>
            <a:r>
              <a:rPr b="1" lang="ru-RU" sz="3000" spc="-1" strike="noStrike" u="sng">
                <a:solidFill>
                  <a:srgbClr val="000099"/>
                </a:solidFill>
                <a:uFillTx/>
                <a:latin typeface="Arial"/>
              </a:rPr>
              <a:t>старше 25 лет </a:t>
            </a:r>
            <a:br>
              <a:rPr sz="3000"/>
            </a:b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ользуются интернетом </a:t>
            </a:r>
            <a:br>
              <a:rPr sz="3000"/>
            </a:br>
            <a:r>
              <a:rPr b="1" lang="ru-RU" sz="3000" spc="-1" strike="noStrike" u="sng">
                <a:solidFill>
                  <a:srgbClr val="000099"/>
                </a:solidFill>
                <a:uFillTx/>
                <a:latin typeface="Arial"/>
              </a:rPr>
              <a:t>более активно</a:t>
            </a: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, </a:t>
            </a:r>
            <a:br>
              <a:rPr sz="3000"/>
            </a:b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чем молодые (до 24 лет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4360" y="3257640"/>
          <a:ext cx="7913520" cy="28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257640"/>
                    <a:ext cx="79135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403280" y="215100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зраст интернет-пользователей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вартал 2005 года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данные: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OMIR Monitoring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24240" y="2004840"/>
            <a:ext cx="654048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ГЕ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еографическое распределение интернет-аудитории неравноме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ыделяются </a:t>
            </a:r>
            <a:br>
              <a:rPr sz="20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нтральный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 </a:t>
            </a:r>
            <a:br>
              <a:rPr sz="20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волжский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егионы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9%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%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аудитории соответствен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начительно увеличилась за 2005 год доля интернет-пользователей из </a:t>
            </a:r>
            <a:br>
              <a:rPr sz="20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ибирского региона: до 13%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03280" y="215100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% пользователей интернета из различных регионов РФ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данные: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OMIR Monitoring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4920" y="2925720"/>
          <a:ext cx="87962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925720"/>
                    <a:ext cx="87962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24240" y="2004840"/>
            <a:ext cx="65404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ОБЪЕМ РЕКЛАМНОГО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ИНТЕРНЕТ-РЫ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ъем рынка рекламы в интернете показал рекордный прирост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на 71%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сравнении с 2004 г. и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ставил за 2005 год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60 млн.дол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 данным АКАР объем инвестиций в интернет-рекламу превысит вложения в радио-рекламу к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2009 году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ост рынка не замедлится, а объем рынка интернет-рекламы в ближайшие годы может увеличиться </a:t>
            </a:r>
            <a:br>
              <a:rPr sz="1800"/>
            </a:b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на 70-90%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48000" y="2349360"/>
            <a:ext cx="6804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Доклад </a:t>
            </a:r>
            <a:br>
              <a:rPr sz="30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Александра Анатольевича АЙГИСТОВА </a:t>
            </a:r>
            <a:br>
              <a:rPr sz="3600"/>
            </a:br>
            <a:br>
              <a:rPr sz="20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заместителя председателя правления РО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заместителя председателя оргкомитета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Национальной премии за вклад в развитие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российского сегмента сети интернет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«ПРЕМИЯ РУНЕТА»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144880" cy="27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66920" y="215100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бъем рынка СМИ в 2005 г. в млрд. долл. СШ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2670120"/>
          <a:ext cx="7191360" cy="427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70120"/>
                    <a:ext cx="719136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2920" y="215100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бъем рекламы в средствах ее распространения в 2005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68360" y="2708280"/>
          <a:ext cx="59040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708280"/>
                    <a:ext cx="59040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424240" y="2004840"/>
            <a:ext cx="65404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РУНЕТ И МЕЖДУНАРОДНЫЙ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РЫНОК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 всех российских медиа-компаний именно интернет-компаниии продемонстрировали самую большую оперативность выхода на западный рынок ценных бума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Это уже сделали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РБК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Rambler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чем размещение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PO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мело головокружительный успех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24240" y="2004840"/>
            <a:ext cx="654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ПЕРСПЕКТИВЫ И ПРОГНОЗЫ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РАЗВИТИЯ РУ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По прогнозам, в будущем количество интернет-пользователей в России будет расти и </a:t>
            </a:r>
            <a:br>
              <a:rPr sz="22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к 2010 году </a:t>
            </a:r>
            <a:br>
              <a:rPr sz="2200"/>
            </a:b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достигнет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50 млн. чел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7775640" cy="1643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95640" y="4221000"/>
            <a:ext cx="655308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0" y="2636640"/>
            <a:ext cx="640908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166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Tahoma"/>
              </a:rPr>
              <a:t>IV.</a:t>
            </a:r>
            <a:r>
              <a:rPr b="0" lang="en-US" sz="4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4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ru-RU" sz="4600" spc="-1" strike="noStrike">
                <a:solidFill>
                  <a:srgbClr val="000066"/>
                </a:solidFill>
                <a:latin typeface="Arial Black"/>
              </a:rPr>
              <a:t>ПОЗИЦИЯ ГОСУДАРСТВА</a:t>
            </a:r>
            <a:r>
              <a:rPr b="0" lang="ru-RU" sz="5000" spc="-1" strike="noStrike">
                <a:solidFill>
                  <a:srgbClr val="000066"/>
                </a:solidFill>
                <a:latin typeface="Arial Black"/>
              </a:rPr>
              <a:t> </a:t>
            </a:r>
            <a:br>
              <a:rPr sz="5000"/>
            </a:br>
            <a:r>
              <a:rPr b="0" lang="ru-RU" sz="5000" spc="-1" strike="noStrike">
                <a:solidFill>
                  <a:srgbClr val="000066"/>
                </a:solidFill>
                <a:latin typeface="Arial"/>
              </a:rPr>
              <a:t>по вопросу регулирования интернета в РФ</a:t>
            </a:r>
            <a:endParaRPr b="0" lang="en-US" sz="5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7280" y="2133720"/>
            <a:ext cx="7777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66760" indent="-1166760">
              <a:lnSpc>
                <a:spcPct val="100000"/>
              </a:lnSpc>
              <a:buClr>
                <a:srgbClr val="000066"/>
              </a:buClr>
              <a:buFont typeface="Arial Black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Arial Black"/>
              </a:rPr>
              <a:t>Всероссийский Интернет-МАРАФОН</a:t>
            </a:r>
            <a:br>
              <a:rPr sz="4200"/>
            </a:br>
            <a:r>
              <a:rPr b="0" lang="en-US" sz="4200" spc="-1" strike="noStrike">
                <a:solidFill>
                  <a:srgbClr val="000066"/>
                </a:solidFill>
                <a:latin typeface="Arial Black"/>
              </a:rPr>
              <a:t>‘</a:t>
            </a:r>
            <a:r>
              <a:rPr b="0" lang="ru-RU" sz="4200" spc="-1" strike="noStrike">
                <a:solidFill>
                  <a:srgbClr val="000066"/>
                </a:solidFill>
                <a:latin typeface="Arial Black"/>
              </a:rPr>
              <a:t>2006</a:t>
            </a:r>
            <a:br>
              <a:rPr sz="4200"/>
            </a:br>
            <a:br>
              <a:rPr sz="2000"/>
            </a:br>
            <a:r>
              <a:rPr b="0" lang="ru-RU" sz="4000" spc="-1" strike="noStrike" u="sng">
                <a:solidFill>
                  <a:srgbClr val="000066"/>
                </a:solidFill>
                <a:uFillTx/>
                <a:latin typeface="Arial"/>
              </a:rPr>
              <a:t>все только начинает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35280" y="3284640"/>
            <a:ext cx="1903680" cy="1903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765000"/>
            <a:ext cx="864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 Black"/>
              </a:rPr>
              <a:t>СПАСИБО </a:t>
            </a:r>
            <a:br>
              <a:rPr sz="5000"/>
            </a:br>
            <a:r>
              <a:rPr b="0" lang="en-US" sz="5000" spc="-1" strike="noStrike">
                <a:solidFill>
                  <a:srgbClr val="000066"/>
                </a:solidFill>
                <a:latin typeface="Arial Black"/>
              </a:rPr>
              <a:t>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3420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егиональный Общественный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Центр Интернет-Технологий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РОЦИ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976480"/>
            <a:ext cx="925200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ffffff"/>
                </a:solidFill>
                <a:latin typeface="Arial"/>
              </a:rPr>
              <a:t>Интернет-МАРАФОН</a:t>
            </a:r>
            <a:br>
              <a:rPr sz="6000"/>
            </a:br>
            <a:r>
              <a:rPr b="0" lang="en-US" sz="12000" spc="-1" strike="noStrike">
                <a:solidFill>
                  <a:srgbClr val="ffffff"/>
                </a:solidFill>
                <a:latin typeface="Arial"/>
              </a:rPr>
              <a:t>2006</a:t>
            </a:r>
            <a:br>
              <a:rPr sz="3000"/>
            </a:b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-27000"/>
            <a:ext cx="9144000" cy="31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-541440" y="-33480"/>
          <a:ext cx="9685440" cy="31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-33480"/>
                    <a:ext cx="9685440" cy="31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0" y="2332080"/>
            <a:ext cx="80280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0000"/>
                </a:solidFill>
                <a:latin typeface="Arial"/>
              </a:rPr>
              <a:t>Всероссийский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4648320"/>
            <a:ext cx="442764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ЕКАТЕРИНБУРГ</a:t>
            </a:r>
            <a:br>
              <a:rPr sz="22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альский Федеральны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3 августа 2006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www.InternetMarafon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5800" y="429264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48000" y="1916280"/>
            <a:ext cx="730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66760" indent="-11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I.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риветствие учас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2781360"/>
            <a:ext cx="6588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Всероссийского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Интернет-МАРАФОНА </a:t>
            </a:r>
            <a:br>
              <a:rPr sz="3600"/>
            </a:br>
            <a:br>
              <a:rPr sz="3600"/>
            </a:b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РИФ-УРА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976480"/>
            <a:ext cx="925200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ffffff"/>
                </a:solidFill>
                <a:latin typeface="Arial"/>
              </a:rPr>
              <a:t>Интернет-МАРАФОН</a:t>
            </a:r>
            <a:br>
              <a:rPr sz="6000"/>
            </a:br>
            <a:r>
              <a:rPr b="0" lang="en-US" sz="12000" spc="-1" strike="noStrike">
                <a:solidFill>
                  <a:srgbClr val="ffffff"/>
                </a:solidFill>
                <a:latin typeface="Arial"/>
              </a:rPr>
              <a:t>2006</a:t>
            </a:r>
            <a:br>
              <a:rPr sz="3000"/>
            </a:b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7000"/>
            <a:ext cx="9144000" cy="31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541440" y="-33480"/>
          <a:ext cx="9685440" cy="31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-33480"/>
                    <a:ext cx="9685440" cy="31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0" y="2332080"/>
            <a:ext cx="80280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0000"/>
                </a:solidFill>
                <a:latin typeface="Arial"/>
              </a:rPr>
              <a:t>Всероссийский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4648320"/>
            <a:ext cx="442764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ЕКАТЕРИНБУРГ</a:t>
            </a:r>
            <a:br>
              <a:rPr sz="22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альский Федеральны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3 августа 2006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www.InternetMarafon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5800" y="429264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81120" y="3645000"/>
            <a:ext cx="597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РГАНИЗАТОР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ГИОНАЛЬНЫЙ ОБЩЕСТВЕННЫЙ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ИНТЕРНЕТ-ТЕХНОЛОГИЙ (РОЦИ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000" y="2060640"/>
            <a:ext cx="723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72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II.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Всероссийский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Интернет-МАРАФОН: общая информация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00000" y="5407200"/>
            <a:ext cx="5759640" cy="121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4360" y="5689440"/>
            <a:ext cx="4608720" cy="11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09840" y="5400720"/>
            <a:ext cx="597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АТРОНА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ДЕРАЛЬНОЕ АГЕНТСТВО ПО ПЕЧАТИ И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ССОВЫМ КОММУНИКАЦ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7921800" cy="30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460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Tahoma"/>
              </a:rPr>
              <a:t>III.</a:t>
            </a:r>
            <a:r>
              <a:rPr b="0" lang="en-US" sz="50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ru-RU" sz="5000" spc="-1" strike="noStrike">
                <a:solidFill>
                  <a:srgbClr val="000066"/>
                </a:solidFill>
                <a:latin typeface="Arial Black"/>
              </a:rPr>
              <a:t>РУНЕТ В ЦИФРАХ </a:t>
            </a:r>
            <a:br>
              <a:rPr sz="1000"/>
            </a:b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обобщенная аналитика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2005 – 2006 гг.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24240" y="2060640"/>
            <a:ext cx="6395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Темпы роста ИТ в России более чем </a:t>
            </a:r>
            <a:br>
              <a:rPr sz="2000"/>
            </a:b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в два раза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превышают мировые и составляют порядка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20% в год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днако, доля России на мировом рынке ИТ составляет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менее 0,7%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Абсолютная цифра тем не менее впечатляет: </a:t>
            </a:r>
            <a:br>
              <a:rPr sz="2000"/>
            </a:b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7 млрд. долл. в год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Бурно развивается</a:t>
            </a:r>
            <a:br>
              <a:rPr sz="2000"/>
            </a:b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научно-образовательный сегмент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24240" y="2004840"/>
            <a:ext cx="6395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1" lang="en-US" sz="3000" spc="-1" strike="noStrike" u="sng">
                <a:solidFill>
                  <a:srgbClr val="000099"/>
                </a:solidFill>
                <a:uFillTx/>
                <a:latin typeface="Arial"/>
              </a:rPr>
              <a:t>ОБЩЕЕ КОЛИЧЕСТВО </a:t>
            </a:r>
            <a:br>
              <a:rPr sz="3000"/>
            </a:b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600" spc="-1" strike="noStrike" u="sng">
                <a:solidFill>
                  <a:srgbClr val="000099"/>
                </a:solidFill>
                <a:uFillTx/>
                <a:latin typeface="Arial"/>
              </a:rPr>
              <a:t>интернет-пользователей в Росс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55880" y="3381480"/>
            <a:ext cx="59641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По данным фонда </a:t>
            </a:r>
            <a:br>
              <a:rPr sz="2200"/>
            </a:b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«Общественное мнение» число пользователей интернета в России </a:t>
            </a:r>
            <a:br>
              <a:rPr sz="2200"/>
            </a:b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на конец 2005 года составило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1,7 млн. человек</a:t>
            </a:r>
            <a:br>
              <a:rPr sz="2400"/>
            </a:b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20% от всего населения РФ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24240" y="2004840"/>
            <a:ext cx="6395760" cy="46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о данным фонда «Общественное мнение», число пользователей интернета в России по состоянию на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I </a:t>
            </a: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квартал 2006 года составил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24,3 млн. человек</a:t>
            </a:r>
            <a:br>
              <a:rPr sz="24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(21%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от всего населения РФ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од интернет-аудиторией принято считать пользователей, заходящих в интернет хотя бы раз в 6 месяц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Количество интернет-пользователей, </a:t>
            </a:r>
            <a:br>
              <a:rPr sz="1600"/>
            </a:b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спользующих интернет хотя бы раз в неделю, составляет </a:t>
            </a:r>
            <a:br>
              <a:rPr sz="1600"/>
            </a:b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15,6 млн. чел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(14% от населения РФ), а ежедневная аудитория составляет всего </a:t>
            </a: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8,5 млн. чел.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(7% от населения РФ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8:26:29Z</dcterms:created>
  <dc:creator>Serge A PLUGOTARENKO</dc:creator>
  <dc:description/>
  <dc:language>en-US</dc:language>
  <cp:lastModifiedBy>Serge A PLUGOTARENKO</cp:lastModifiedBy>
  <dcterms:modified xsi:type="dcterms:W3CDTF">2006-08-21T10:15:01Z</dcterms:modified>
  <cp:revision>73</cp:revision>
  <dc:subject/>
  <dc:title>ОТЧЕТ ПО РАЗВИТИЮ РУНЕТА В 2005 году</dc:title>
</cp:coreProperties>
</file>