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D66-0A69-493A-8E20-3B2D61F8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948-E62C-4C6C-98E8-4F207CA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F16-A9CA-44F9-BA99-DAB02C43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FD2-4C6B-4014-AE35-9E72A4F8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6F5-220D-492C-81E4-8AE3E2A3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ACB-046B-4A99-AD8F-C2109C70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40B-96C4-4EF0-8F4A-F27FEB0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EDB-F60F-4F6A-8C13-0B7F96F1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116-2746-449C-A90A-1E68CBDA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C12-1B25-4559-A3BF-C2AD067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920-8A98-4A99-9992-08730AA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B29-B5F1-41B4-A402-7BABE37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5DD-AC6A-40B0-9222-EE472116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3249720"/>
            <a:ext cx="8713800" cy="140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280656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ПРОБЛЕМА АКТУАЛЬНОСТИ ИНФОРМ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РАЗМЕЩЕННОЙ В ИНТЕРНЕТ-ПРОСТРАНСТВ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В ЧАСТНОСТИ НА БИЗНЕС-ПОРТ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3873E-006 L 2.5E-006 -0.17826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34136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Поощрение предприятий, поддерживающих актуальную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80000" y="1484280"/>
            <a:ext cx="4895280" cy="3906360"/>
            <a:chOff x="3780000" y="1484280"/>
            <a:chExt cx="4895280" cy="390636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3780000" y="1484280"/>
              <a:ext cx="4895280" cy="39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664240" y="3220560"/>
              <a:ext cx="876960" cy="14691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32720" y="3068640"/>
            <a:ext cx="2266560" cy="2896920"/>
            <a:chOff x="6732720" y="3068640"/>
            <a:chExt cx="2266560" cy="2896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6732720" y="3068640"/>
              <a:ext cx="2266560" cy="28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814800" y="3303360"/>
              <a:ext cx="2160720" cy="2566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39640" y="2492280"/>
            <a:ext cx="3168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Verdana"/>
              </a:rPr>
              <a:t>Вынесение в отдельный список предприятий обновивших или изменивших информацию о себ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565360"/>
            <a:ext cx="360360" cy="289080"/>
          </a:xfrm>
          <a:prstGeom prst="star5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4360" y="24541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Verdana"/>
              </a:rPr>
              <a:t>Постоянная работа информационных отделов  для актуализации базы</a:t>
            </a:r>
            <a:r>
              <a:rPr b="0" lang="en-US" sz="1800" spc="-1" strike="noStrike">
                <a:solidFill>
                  <a:srgbClr val="33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22560" y="1484280"/>
            <a:ext cx="5042160" cy="37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1341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Работа бизнес-порталов по актуализации справоч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565360"/>
            <a:ext cx="360360" cy="289080"/>
          </a:xfrm>
          <a:prstGeom prst="star5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156360" y="3211560"/>
            <a:ext cx="2015640" cy="1512360"/>
            <a:chOff x="6156360" y="3211560"/>
            <a:chExt cx="2015640" cy="151236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6156360" y="3211560"/>
              <a:ext cx="2015640" cy="15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156360" y="3211560"/>
              <a:ext cx="2015640" cy="14932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042320" y="3787920"/>
            <a:ext cx="2066400" cy="1296360"/>
            <a:chOff x="7042320" y="3787920"/>
            <a:chExt cx="2066400" cy="129636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042320" y="3787920"/>
              <a:ext cx="2066400" cy="12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42320" y="3787920"/>
              <a:ext cx="2013840" cy="12963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012000" y="4365720"/>
            <a:ext cx="2520360" cy="1510920"/>
            <a:chOff x="6012000" y="4365720"/>
            <a:chExt cx="2520360" cy="1510920"/>
          </a:xfrm>
        </p:grpSpPr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6012000" y="4365720"/>
              <a:ext cx="2520360" cy="15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012000" y="4365720"/>
              <a:ext cx="2520360" cy="151092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8720" y="2637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Verdana"/>
              </a:rPr>
              <a:t>Акции поддержки актуальной информации справочной б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211640" y="3213000"/>
            <a:ext cx="4105080" cy="2231640"/>
            <a:chOff x="4211640" y="3213000"/>
            <a:chExt cx="4105080" cy="2231640"/>
          </a:xfrm>
        </p:grpSpPr>
        <p:sp>
          <p:nvSpPr>
            <p:cNvPr id="117" name=""/>
            <p:cNvSpPr/>
            <p:nvPr/>
          </p:nvSpPr>
          <p:spPr>
            <a:xfrm>
              <a:off x="4211640" y="3346200"/>
              <a:ext cx="3618360" cy="196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11640" y="3213000"/>
              <a:ext cx="4101840" cy="2231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211640" y="3213000"/>
              <a:ext cx="4105080" cy="221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250920" y="1341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Работа бизнес-порталов по актуализации справоч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779560"/>
            <a:ext cx="360360" cy="289080"/>
          </a:xfrm>
          <a:prstGeom prst="star5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413000"/>
            <a:ext cx="784836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Формирование более уважительного отношения к бизнес-информации</a:t>
            </a:r>
            <a:r>
              <a:rPr b="1" lang="en-US" sz="24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как к рабочему инструменту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- 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как к источнику актуальной и достоверной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как к средству массовой информ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в т.ч. как к средству продвижения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50864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Verdan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46944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"/>
              </a:rPr>
              <a:t>Введение системы лицензирования или сертификации справоч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8360" y="1785600"/>
            <a:ext cx="748836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Уважаемые коллеги,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Verdana"/>
              </a:rPr>
              <a:t>если вы видите возможные  решения,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Verdana"/>
              </a:rPr>
              <a:t>мы будем рады обсудить взаимовыгодное сотрудничество.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177336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Verdana"/>
              </a:rPr>
              <a:t>Интернет </a:t>
            </a:r>
            <a:r>
              <a:rPr b="1" lang="en-US" sz="4800" spc="-1" strike="noStrike">
                <a:solidFill>
                  <a:srgbClr val="3366cc"/>
                </a:solidFill>
                <a:latin typeface="Verdana"/>
              </a:rPr>
              <a:t>к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3102120"/>
            <a:ext cx="68389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</a:rPr>
              <a:t>- сфера деятель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</a:rPr>
              <a:t>- средство коммуник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Verdana"/>
              </a:rPr>
              <a:t>- отдых, развлеч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- источник ИНФОРМ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557360"/>
            <a:ext cx="6120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Свойства информации</a:t>
            </a: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значимые для бизнес-портала</a:t>
            </a: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2852640"/>
            <a:ext cx="6838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Актуальност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информации определяется степенью ценности информации в момент ее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Достоверност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информации определяется ее свойством отображать реально существующие объекты с необходимой точ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Ценность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информации - комплексный показатель ее качества, мера количества информации на прагматическом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0200" y="2133720"/>
            <a:ext cx="6697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озможность предоставлять актуальную 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В режиме реального времени предоста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- котировки а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- информация о тор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- по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66cc"/>
                </a:solidFill>
                <a:latin typeface="Verdana"/>
              </a:rPr>
              <a:t>услуги: бронирование билетов, гостиниц</a:t>
            </a:r>
            <a:r>
              <a:rPr b="1" lang="en-US" sz="1800" spc="-1" strike="noStrike">
                <a:solidFill>
                  <a:srgbClr val="3366cc"/>
                </a:solidFill>
                <a:latin typeface="Verdana"/>
              </a:rPr>
              <a:t>  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48704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справочная 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постоянно устаре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413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</a:rPr>
              <a:t>ИНТЕРНЕТ-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060640"/>
            <a:ext cx="1008000" cy="1008000"/>
          </a:xfrm>
          <a:prstGeom prst="rightArrow">
            <a:avLst>
              <a:gd name="adj1" fmla="val 56824"/>
              <a:gd name="adj2" fmla="val 69764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812000" y="4797360"/>
            <a:ext cx="1008000" cy="1008000"/>
          </a:xfrm>
          <a:prstGeom prst="rightArrow">
            <a:avLst>
              <a:gd name="adj1" fmla="val 56824"/>
              <a:gd name="adj2" fmla="val 69764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32000" y="1197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</a:rPr>
              <a:t>Объективные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3240000"/>
            <a:ext cx="70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актуальные 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изменение адрес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изменение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ограниченность во времен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тендерных пред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844640"/>
            <a:ext cx="66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постоянно изменяющаяся действ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32000" y="1197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</a:rPr>
              <a:t>Объективные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44640"/>
            <a:ext cx="66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огромный  объем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71680"/>
            <a:ext cx="61200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Verdana"/>
              </a:rPr>
              <a:t>Количество предприятий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Росфирм 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48 164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Yellowpages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37 209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пред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«Большой Урал» 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40 624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170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</a:rPr>
              <a:t>Субъективные пр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708280"/>
            <a:ext cx="8137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Количество справоч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cc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3366cc"/>
                </a:solidFill>
                <a:uFillTx/>
                <a:latin typeface="Verdana"/>
              </a:rPr>
              <a:t>www.yellowpages</a:t>
            </a:r>
            <a:r>
              <a:rPr b="1" lang="ru-RU" sz="2000" spc="-1" strike="noStrike" u="sng">
                <a:solidFill>
                  <a:srgbClr val="3366cc"/>
                </a:solidFill>
                <a:uFillTx/>
                <a:latin typeface="Verdana"/>
              </a:rPr>
              <a:t>-Екатеринбург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25 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изданий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в рубрике «Справочные изд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- </a:t>
            </a:r>
            <a:r>
              <a:rPr b="1" lang="en-US" sz="2000" spc="-1" strike="noStrike" u="sng">
                <a:solidFill>
                  <a:srgbClr val="3366cc"/>
                </a:solidFill>
                <a:uFillTx/>
                <a:latin typeface="Verdana"/>
              </a:rPr>
              <a:t>www.ROSFIRM</a:t>
            </a:r>
            <a:r>
              <a:rPr b="1" lang="ru-RU" sz="2000" spc="-1" strike="noStrike" u="sng">
                <a:solidFill>
                  <a:srgbClr val="3366cc"/>
                </a:solidFill>
                <a:uFillTx/>
                <a:latin typeface="Verdana"/>
              </a:rPr>
              <a:t>.</a:t>
            </a:r>
            <a:r>
              <a:rPr b="1" lang="en-US" sz="2000" spc="-1" strike="noStrike" u="sng">
                <a:solidFill>
                  <a:srgbClr val="3366cc"/>
                </a:solidFill>
                <a:uFillTx/>
                <a:latin typeface="Verdana"/>
              </a:rPr>
              <a:t>ru</a:t>
            </a:r>
            <a:r>
              <a:rPr b="1" lang="ru-RU" sz="2000" spc="-1" strike="noStrike" u="sng">
                <a:solidFill>
                  <a:srgbClr val="3366cc"/>
                </a:solidFill>
                <a:uFillTx/>
                <a:latin typeface="Verdana"/>
              </a:rPr>
              <a:t>-Екатеринбург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35 предприятий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3366cc"/>
                </a:solidFill>
                <a:latin typeface="Verdana"/>
              </a:rPr>
              <a:t>содержат ключевое слово «справочни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2560" y="2349360"/>
            <a:ext cx="3745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2)отсутствие анализа при выборе нос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Инерци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1413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Verdana"/>
              </a:rPr>
              <a:t>Субъективные пр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2349360"/>
            <a:ext cx="3888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Персо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личностны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Verdana"/>
              </a:rPr>
              <a:t>2)отсутствие мотив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17760" y="13986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3986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24000" y="2205000"/>
            <a:ext cx="4174920" cy="266400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2205000"/>
            <a:ext cx="4175280" cy="266400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134136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Поощрение предприятий, поддерживающих актуальную информ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8200" y="3540240"/>
            <a:ext cx="3313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Verdana"/>
              </a:rPr>
              <a:t>Визуальное выделение в общем списк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200" y="2416320"/>
            <a:ext cx="3311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cc"/>
                </a:solidFill>
                <a:latin typeface="Verdana"/>
              </a:rPr>
              <a:t>Обязательная установка даты обновления информац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24360" y="1413000"/>
            <a:ext cx="4679640" cy="4103280"/>
            <a:chOff x="3924360" y="1413000"/>
            <a:chExt cx="4679640" cy="41032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924360" y="1413000"/>
              <a:ext cx="4679640" cy="41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22200" y="4075200"/>
              <a:ext cx="838080" cy="70164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419640" y="4076640"/>
            <a:ext cx="2879280" cy="1798200"/>
            <a:chOff x="3419640" y="4076640"/>
            <a:chExt cx="2879280" cy="179820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3456000" y="4131000"/>
              <a:ext cx="2842920" cy="17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419640" y="4076640"/>
              <a:ext cx="2777040" cy="17982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08000" y="2565360"/>
            <a:ext cx="360360" cy="289080"/>
          </a:xfrm>
          <a:prstGeom prst="star5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3573360"/>
            <a:ext cx="360360" cy="289080"/>
          </a:xfrm>
          <a:prstGeom prst="star5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5:38:58Z</dcterms:created>
  <dc:creator>Shutova</dc:creator>
  <dc:description/>
  <dc:language>en-US</dc:language>
  <cp:lastModifiedBy>Shutova</cp:lastModifiedBy>
  <dcterms:modified xsi:type="dcterms:W3CDTF">2006-08-22T10:05:51Z</dcterms:modified>
  <cp:revision>25</cp:revision>
  <dc:subject/>
  <dc:title>Слайд 1</dc:title>
</cp:coreProperties>
</file>