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9.jpeg" ContentType="image/jpe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07200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EFE6C-B705-4E9C-8206-6CF480DCDF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13F41-6E9D-4F7B-8E2B-7A8395B33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5F2F8-7767-4AD9-8642-E9F469F9EC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B20CE-CB6E-44D8-A0CD-BB127BBB7E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8130D1-0C29-4F17-B400-EAC258281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E3417D-4E00-4897-A8FB-E82A25474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AA7AC9-A59F-43F2-A872-4AC673EF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4CF63-8AD1-47A5-8B8F-D502651D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C58868-1C07-4595-AF80-D64CCF172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9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D4060-261B-4E18-8415-CA9BAFDC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4AEF2F-E35E-4000-9F7B-A31DEC03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B483-61A3-4387-B180-834D6CE2B9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74B870-28D2-482F-8F18-D02DF4E8D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8ED785-880A-479D-9406-F717A9BB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1345A-203B-4D4E-AA8A-BB1552C4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745F6C-4AB5-4294-9004-34C01AB25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2679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807720"/>
            <a:ext cx="264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ABE06-3CFE-47DE-B9F1-B4A0C4E7B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A8C76-40FB-45D5-98ED-A7DC035EB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CEBD0-3ECA-4D75-9204-EA933C933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07C62-6CE8-48DF-B3C1-95464F7F01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392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8BBBD-DF42-47CE-97EC-1DDEE403A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F00C0-5B09-4EAD-A24E-49AC286F94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077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9130D-5B33-4A65-B57E-705ED25797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67920"/>
            <a:ext cx="40158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07720"/>
            <a:ext cx="8229600" cy="23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C2508-C895-4D8E-BC4E-2C274192D8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Click to edit the title text format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68000" y="6381720"/>
            <a:ext cx="4753080" cy="3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"/>
              </a:rPr>
              <a:t>Всероссийский интернет-марафон, 23 августа, Екатеринбур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68360" y="112536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611280" y="5950080"/>
            <a:ext cx="8064000" cy="637920"/>
            <a:chOff x="611280" y="5950080"/>
            <a:chExt cx="8064000" cy="637920"/>
          </a:xfrm>
        </p:grpSpPr>
        <p:sp>
          <p:nvSpPr>
            <p:cNvPr id="8" name=""/>
            <p:cNvSpPr/>
            <p:nvPr/>
          </p:nvSpPr>
          <p:spPr>
            <a:xfrm>
              <a:off x="611280" y="6453360"/>
              <a:ext cx="727200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" name="" descr=""/>
            <p:cNvPicPr/>
            <p:nvPr/>
          </p:nvPicPr>
          <p:blipFill>
            <a:blip r:embed="rId2"/>
            <a:stretch/>
          </p:blipFill>
          <p:spPr>
            <a:xfrm>
              <a:off x="8028000" y="5950080"/>
              <a:ext cx="647280" cy="6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666699"/>
                </a:solidFill>
                <a:latin typeface="Century"/>
              </a:rPr>
              <a:t>Click to edit the title text format</a:t>
            </a:r>
            <a:endParaRPr b="0" lang="en-US" sz="47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1B298-8FD4-4F36-84E4-9CABE3B026D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2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539640" y="5950080"/>
            <a:ext cx="8064720" cy="637920"/>
            <a:chOff x="539640" y="5950080"/>
            <a:chExt cx="8064720" cy="637920"/>
          </a:xfrm>
        </p:grpSpPr>
        <p:sp>
          <p:nvSpPr>
            <p:cNvPr id="56" name=""/>
            <p:cNvSpPr/>
            <p:nvPr/>
          </p:nvSpPr>
          <p:spPr>
            <a:xfrm>
              <a:off x="539640" y="6453360"/>
              <a:ext cx="727236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7956720" y="5950080"/>
              <a:ext cx="647640" cy="6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Century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entury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entury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tv.amedia.ru/index.php?action=video&amp;id=134" TargetMode="External"/><Relationship Id="rId2" Type="http://schemas.openxmlformats.org/officeDocument/2006/relationships/hyperlink" Target="http://tv.amedia.ru/index.php?action=rubric&amp;id=117&amp;page=1" TargetMode="External"/><Relationship Id="rId3" Type="http://schemas.openxmlformats.org/officeDocument/2006/relationships/hyperlink" Target="http://tv.amedia.ru/index.php?action=rubric&amp;id=146&amp;x=19&amp;y=9" TargetMode="External"/><Relationship Id="rId4" Type="http://schemas.openxmlformats.org/officeDocument/2006/relationships/hyperlink" Target="http://tv.amedia.ru/index.php?action=rubric&amp;id=6" TargetMode="External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mailto:Egor.Yakovlev@amediafilm.com" TargetMode="External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"/>
          <p:cNvGrpSpPr/>
          <p:nvPr/>
        </p:nvGrpSpPr>
        <p:grpSpPr>
          <a:xfrm>
            <a:off x="539640" y="5950080"/>
            <a:ext cx="8064720" cy="637920"/>
            <a:chOff x="539640" y="5950080"/>
            <a:chExt cx="8064720" cy="637920"/>
          </a:xfrm>
        </p:grpSpPr>
        <p:sp>
          <p:nvSpPr>
            <p:cNvPr id="96" name=""/>
            <p:cNvSpPr/>
            <p:nvPr/>
          </p:nvSpPr>
          <p:spPr>
            <a:xfrm>
              <a:off x="539640" y="6453360"/>
              <a:ext cx="7272360" cy="0"/>
            </a:xfrm>
            <a:prstGeom prst="line">
              <a:avLst/>
            </a:prstGeom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7956720" y="5950080"/>
              <a:ext cx="647640" cy="637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8" name=""/>
          <p:cNvSpPr/>
          <p:nvPr/>
        </p:nvSpPr>
        <p:spPr>
          <a:xfrm>
            <a:off x="2402280" y="5203800"/>
            <a:ext cx="59918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гор Яковле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18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ице-президент по маркетингу и продажам компании Амеди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836640"/>
            <a:ext cx="7772400" cy="21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0000ff"/>
                </a:solidFill>
                <a:latin typeface="Century"/>
              </a:rPr>
              <a:t>Развлекательный видеоконтент в интернете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Telesa – </a:t>
            </a: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радио с флэш-картинкой</a:t>
            </a:r>
            <a:endParaRPr b="0" lang="en-US" sz="3200" spc="-1" strike="noStrike">
              <a:solidFill>
                <a:srgbClr val="666699"/>
              </a:solidFill>
              <a:latin typeface="Century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39640" y="1413000"/>
            <a:ext cx="8064720" cy="432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C77FB-D071-4BAB-AB9C-93BF4BD5A00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Очевидец</a:t>
            </a: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.tv</a:t>
            </a: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 – </a:t>
            </a:r>
            <a:r>
              <a:rPr b="0" lang="ru-RU" sz="2400" spc="-1" strike="noStrike">
                <a:solidFill>
                  <a:srgbClr val="666699"/>
                </a:solidFill>
                <a:latin typeface="Century"/>
              </a:rPr>
              <a:t>контент телепрограммы онлайн</a:t>
            </a:r>
            <a:endParaRPr b="0" lang="en-US" sz="2400" spc="-1" strike="noStrike">
              <a:solidFill>
                <a:srgbClr val="666699"/>
              </a:solidFill>
              <a:latin typeface="Century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064360" cy="428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AA514-4224-4A94-AF6F-7F7BB66F8D3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AtomFilms.com – </a:t>
            </a: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новые сериалы</a:t>
            </a:r>
            <a:endParaRPr b="0" lang="en-US" sz="3200" spc="-1" strike="noStrike">
              <a:solidFill>
                <a:srgbClr val="666699"/>
              </a:solidFill>
              <a:latin typeface="Century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55640" y="1522440"/>
            <a:ext cx="7380360" cy="533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48639-1837-43CE-AD36-4292FEFD8F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274320"/>
            <a:ext cx="82090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YouTube.com – </a:t>
            </a: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пираты и видеокараоке</a:t>
            </a:r>
            <a:endParaRPr b="0" lang="en-US" sz="3200" spc="-1" strike="noStrike">
              <a:solidFill>
                <a:srgbClr val="666699"/>
              </a:solidFill>
              <a:latin typeface="Century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7596000" cy="501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173A4-B99B-43A5-B27A-D6BCBD33729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MariposaHDTV.com </a:t>
            </a:r>
            <a:br>
              <a:rPr sz="3200"/>
            </a:b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– </a:t>
            </a: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имя все говорит: </a:t>
            </a: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HD TV</a:t>
            </a:r>
            <a:endParaRPr b="0" lang="en-US" sz="3200" spc="-1" strike="noStrike">
              <a:solidFill>
                <a:srgbClr val="666699"/>
              </a:solidFill>
              <a:latin typeface="Century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7991640" cy="3489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E659-0EE2-470F-A1B2-CEEDDC9939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BBC Creative archive </a:t>
            </a:r>
            <a:br>
              <a:rPr sz="3200"/>
            </a:b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– </a:t>
            </a: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телевизионщики дают права</a:t>
            </a:r>
            <a:endParaRPr b="0" lang="en-US" sz="3200" spc="-1" strike="noStrike">
              <a:solidFill>
                <a:srgbClr val="666699"/>
              </a:solidFill>
              <a:latin typeface="Century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79280" y="1571760"/>
            <a:ext cx="8748720" cy="52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0B031-97AD-453B-889D-7F0DB68BD0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Тенденции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075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является больше форматов. Второй экран, третий экран, малый экран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Интеграция с другими видами контента и обвязка дополнительными сервисами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Иной баланс жанров и форматов. Внимание переключается быстрее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Конкуренция за внимание выходит за рамки одного медиа-канала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вышается актуальность нишевых форматов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D00CE-20FB-471C-82E1-770ACF43B7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Более мелкие явления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Растет роль нестандартной рекламы и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roduct placement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Производство контента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любителями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Интерактивность развивается со стороны видеоигр: современные компьютерные игры – это во многом интерактивное кино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B86F8A-8457-49DD-B446-ED38229097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Вариант прогноза – что будет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Интеграция в новые среды самых популярных видеопродуктов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оявление новых сценарных видеопродуктов, специально сделанных под эту среду. Вопрос - в создании стартовой цепочки спроса-предложения.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Развитие нишевых продуктов. Формирование новых жанров- и форматов.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609480" indent="-6094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Новые 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старые</a:t>
            </a:r>
            <a:r>
              <a:rPr b="0" lang="en-US" sz="2400" spc="-1" strike="noStrike">
                <a:solidFill>
                  <a:srgbClr val="000000"/>
                </a:solidFill>
                <a:latin typeface="Century"/>
              </a:rPr>
              <a:t>”</a:t>
            </a: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 бизнес-модели зарабатывания денег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CACA-AD34-499A-9397-DE5F0211E9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Century"/>
              </a:rPr>
              <a:t>Классификация видеоконтента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10920" y="1413000"/>
            <a:ext cx="8064360" cy="45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Художественный специально созданный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для интернета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(www.atomfilms.com)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Контент, созданный пользователями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- user generated content (www.stupidvideo.com)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Библиотеки традиционного видеоконтента (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www.iTunes.com)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Ворованный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видеоконтент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(www.YouTube.com)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40475-F52D-464A-B605-C8CF68F8180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27664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entury"/>
              </a:rPr>
              <a:t>Счастье = 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entury"/>
              </a:rPr>
              <a:t>реальность минус ожидания</a:t>
            </a:r>
            <a:endParaRPr b="0" lang="en-US" sz="44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A541-20AD-4943-8D6E-6224E29477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Century"/>
              </a:rPr>
              <a:t>Классификация бизнес-моделей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7777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Покупка видеоконтента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Подписка на доступ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Медийная бизнес-модель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(продажа рекламы)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Дополнительные сервисы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Итнерактивные продукты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Мерчандайзинг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Интегрированная реклама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8124-DB1E-4C6B-BDDF-0FF356E6C90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666699"/>
                </a:solidFill>
                <a:latin typeface="Century"/>
              </a:rPr>
              <a:t>Новый проект Амедиа</a:t>
            </a:r>
            <a:endParaRPr b="0" lang="en-US" sz="4700" spc="-1" strike="noStrike">
              <a:solidFill>
                <a:srgbClr val="666699"/>
              </a:solidFill>
              <a:latin typeface="Century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37134" t="35167" r="3232" b="38115"/>
          <a:stretch/>
        </p:blipFill>
        <p:spPr>
          <a:xfrm>
            <a:off x="2411280" y="3213000"/>
            <a:ext cx="4464360" cy="217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8EEA6-0CF1-4EB5-B331-2DDFC2F4F9C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ПИЛОТ</a:t>
            </a: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: </a:t>
            </a: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посещаемость </a:t>
            </a: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TV.amedia.ru</a:t>
            </a:r>
            <a:endParaRPr b="0" lang="en-US" sz="32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8013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Ежедневно: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аудитория проекта: 6 000 – 7 000 посетителей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просмотров роликов: 16 – 18 000 просмотров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1 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посетитель просматривает в среднем 3 ролика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Ядро аудитории: более 40%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Пиковые значения в сутки: 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аудитория проекта: более 8 000 посетителей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просмотров роликов: 30 000* просмотров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*</a:t>
            </a:r>
            <a:r>
              <a:rPr b="0" lang="ru-RU" sz="1400" spc="-1" strike="noStrike">
                <a:solidFill>
                  <a:srgbClr val="000000"/>
                </a:solidFill>
                <a:latin typeface="Century"/>
              </a:rPr>
              <a:t>По данным </a:t>
            </a:r>
            <a:r>
              <a:rPr b="0" lang="en-US" sz="1400" spc="-1" strike="noStrike">
                <a:solidFill>
                  <a:srgbClr val="000000"/>
                </a:solidFill>
                <a:latin typeface="Century"/>
              </a:rPr>
              <a:t>SpyLog</a:t>
            </a: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E14AF-2D71-4725-A031-82E374116EA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Динамика посещаемости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26920" y="1341360"/>
          <a:ext cx="7201080" cy="4711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41360"/>
                    <a:ext cx="7201080" cy="471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32ED3-BF85-4022-AE6C-BEC4BE1F84C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9528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В течении дня посещаемость имеет 2 выраженных пика: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На работе: 15-16 часов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-285840">
              <a:spcBef>
                <a:spcPts val="45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Дома: 21-22 часа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rcRect l="4558" t="0" r="0" b="0"/>
          <a:stretch/>
        </p:blipFill>
        <p:spPr>
          <a:xfrm>
            <a:off x="826920" y="2781360"/>
            <a:ext cx="6840720" cy="331308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Распределение в течении суток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B9F86-C838-4230-AE0B-DD03FC1C47F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4581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Целевая демография: возраст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-468360" y="2205000"/>
          <a:ext cx="11798280" cy="60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468360" y="2205000"/>
                    <a:ext cx="11798280" cy="60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175AA-F385-4959-BD88-04B0DD772B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Century"/>
              </a:rPr>
              <a:t>Ролики </a:t>
            </a: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TV.amedia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4360" y="1484280"/>
            <a:ext cx="777528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Century"/>
                <a:hlinkClick r:id="rId1"/>
              </a:rPr>
              <a:t>http://tv.amedia.ru/index.php?action=video&amp;id=134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- первый интернет-сериал "Няня: жизнь за кадром“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Century"/>
                <a:hlinkClick r:id="rId2"/>
              </a:rPr>
              <a:t>http://tv.amedia.ru/index.php?action=rubric&amp;id=117&amp;page=1#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- самое популярное народное творчество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Century"/>
                <a:hlinkClick r:id="rId3"/>
              </a:rPr>
              <a:t>http://tv.amedia.ru/index.php?action=rubric&amp;id=146&amp;x=19&amp;y=9#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- суперопопулярный проект "За кадром НРК“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666699"/>
                </a:solidFill>
                <a:uFillTx/>
                <a:latin typeface="Century"/>
                <a:hlinkClick r:id="rId4"/>
              </a:rPr>
              <a:t>http://tv.amedia.ru/index.php?action=rubric&amp;id=6</a:t>
            </a:r>
            <a:r>
              <a:rPr b="0" lang="en-US" sz="18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Century"/>
              </a:rPr>
              <a:t>- лучшие шутки Няни</a:t>
            </a:r>
            <a:endParaRPr b="0" lang="en-US" sz="1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E4630-1FE9-4D12-932E-DC6F15C7370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4130640" cy="51116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4572000" y="260280"/>
            <a:ext cx="3355920" cy="6048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rcRect l="37134" t="35167" r="3232" b="38115"/>
          <a:stretch/>
        </p:blipFill>
        <p:spPr>
          <a:xfrm>
            <a:off x="250920" y="0"/>
            <a:ext cx="2087640" cy="1014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39461-8D6D-4408-B68A-732D48917D5E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4581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Что это такое?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"/>
              </a:rPr>
              <a:t>Развлекательный видеопортал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24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entury"/>
              </a:rPr>
              <a:t>Ежедневно</a:t>
            </a: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:</a:t>
            </a:r>
            <a:r>
              <a:rPr b="0" lang="ru-RU" sz="2500" spc="-1" strike="noStrike">
                <a:solidFill>
                  <a:srgbClr val="000000"/>
                </a:solidFill>
                <a:latin typeface="Century"/>
              </a:rPr>
              <a:t>– специально снятые для портала интернет-сериалы, флэш-мультфильмы, лучшие шутки, лицензированные у популярных телепрограмм, а также народное творчество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24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entury"/>
              </a:rPr>
              <a:t>NonStopTV – </a:t>
            </a:r>
            <a:r>
              <a:rPr b="0" lang="ru-RU" sz="2500" spc="-1" strike="noStrike">
                <a:solidFill>
                  <a:srgbClr val="000000"/>
                </a:solidFill>
                <a:latin typeface="Century"/>
              </a:rPr>
              <a:t>бесплатный интернет-телеканал, где программу передач составляют сами пользователи и где всегда есть, что посмотреть – вне зависимости от времени суток и дня недели</a:t>
            </a:r>
            <a:endParaRPr b="0" lang="en-US" sz="25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4CE49-4B40-4133-93B7-92124DD82F2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6699"/>
                </a:solidFill>
                <a:latin typeface="Century"/>
              </a:rPr>
              <a:t>Что там будет: каналы </a:t>
            </a: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NonStopTV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280360" cy="45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"/>
              </a:rPr>
              <a:t>Канал «Комедия»:</a:t>
            </a: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лучшие шутки КВН, </a:t>
            </a:r>
            <a:r>
              <a:rPr b="0" lang="en-US" sz="2100" spc="-1" strike="noStrike">
                <a:solidFill>
                  <a:srgbClr val="000000"/>
                </a:solidFill>
                <a:latin typeface="Century"/>
              </a:rPr>
              <a:t>Comedy Club, </a:t>
            </a: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«Сам себе режиссер», «Городок» и других, а также избранное из лучших ситкомов</a:t>
            </a:r>
            <a:endParaRPr b="0" lang="en-US" sz="21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"/>
              </a:rPr>
              <a:t>Канал «Сериал»:</a:t>
            </a: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специально снятые для </a:t>
            </a:r>
            <a:r>
              <a:rPr b="0" lang="en-US" sz="2100" spc="-1" strike="noStrike">
                <a:solidFill>
                  <a:srgbClr val="000000"/>
                </a:solidFill>
                <a:latin typeface="Century"/>
              </a:rPr>
              <a:t>NonStopTV </a:t>
            </a: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интернет-ситкомы, а также избранные материалы из телевизионных сериалов (как производства «Амедиа», так и других)</a:t>
            </a:r>
            <a:endParaRPr b="0" lang="en-US" sz="21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"/>
              </a:rPr>
              <a:t>Канал «Кино»:</a:t>
            </a: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трейлеры киноновинок, документальные фильмы, мини-интервью с актерами и пр.</a:t>
            </a:r>
            <a:endParaRPr b="0" lang="en-US" sz="21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Century"/>
              </a:rPr>
              <a:t>Канал «Народное творчество»:</a:t>
            </a: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 </a:t>
            </a:r>
            <a:br>
              <a:rPr sz="2100"/>
            </a:b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интернет-фестиваль суперкороткометражного кино</a:t>
            </a:r>
            <a:r>
              <a:rPr b="0" lang="en-US" sz="2100" spc="-1" strike="noStrike">
                <a:solidFill>
                  <a:srgbClr val="000000"/>
                </a:solidFill>
                <a:latin typeface="Century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смешное </a:t>
            </a:r>
            <a:r>
              <a:rPr b="0" lang="en-US" sz="2100" spc="-1" strike="noStrike">
                <a:solidFill>
                  <a:srgbClr val="000000"/>
                </a:solidFill>
                <a:latin typeface="Century"/>
              </a:rPr>
              <a:t>home video</a:t>
            </a: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, видео-караоке</a:t>
            </a:r>
            <a:r>
              <a:rPr b="0" lang="en-US" sz="2100" spc="-1" strike="noStrike">
                <a:solidFill>
                  <a:srgbClr val="000000"/>
                </a:solidFill>
                <a:latin typeface="Century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Century"/>
              </a:rPr>
              <a:t>и прочее</a:t>
            </a:r>
            <a:endParaRPr b="0" lang="en-US" sz="21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EAA52-AAA9-4B42-B540-340F47508AA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Перспективы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000" y="1412640"/>
            <a:ext cx="806436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Традиционные СМИ 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традиционно</a:t>
            </a: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”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не занимают лидирующих позиций в интернете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Каким будет рынок видеоконтента через два года? К чему нужно готовиться?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Бизнес-схемы, правовая сторона и логистика достаточно инерционны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А вот сами по себе </a:t>
            </a:r>
            <a:r>
              <a:rPr b="0" i="1" lang="ru-RU" sz="2800" spc="-1" strike="noStrike">
                <a:solidFill>
                  <a:srgbClr val="000000"/>
                </a:solidFill>
                <a:latin typeface="Century"/>
              </a:rPr>
              <a:t>качества</a:t>
            </a: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 видеоконтента изменятся быстрее. Как именно?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76639-E0E0-430F-B535-EC34BF5E647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73944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NonStopTV: </a:t>
            </a:r>
            <a:r>
              <a:rPr b="0" lang="ru-RU" sz="3600" spc="-1" strike="noStrike">
                <a:solidFill>
                  <a:srgbClr val="666699"/>
                </a:solidFill>
                <a:latin typeface="Century"/>
              </a:rPr>
              <a:t>в перспективе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79930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идеоблоги – личные видеостранички пользователей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Динамические плей-листы: подбор видеороликов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в соответствии с его предпочтениями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Новые каналы: «Спорт» (лучшие голы, ключевые моменты и пр), «Музыка» (трансляции видеоклипов, видеокараоке и прочее) и другие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"/>
              </a:rPr>
              <a:t>Лицензирование и адаптация англоязычного видеоконтента</a:t>
            </a:r>
            <a:endParaRPr b="0" lang="en-US" sz="24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FDF30-9B54-40AD-BA8F-391C7B9B88B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8569080" cy="6335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813120" y="2895480"/>
            <a:ext cx="1368360" cy="1009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Музыка, кино, игры, видео: все развлечения – за два клик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3200400"/>
            <a:ext cx="8715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3300"/>
                </a:solidFill>
                <a:latin typeface="Verdana"/>
              </a:rPr>
              <a:t>Brand identity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0" y="2565360"/>
            <a:ext cx="1297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Революционно удобный в использовани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8000" y="2421000"/>
            <a:ext cx="137160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5f5f5f"/>
                </a:solidFill>
                <a:latin typeface="Verdana"/>
              </a:rPr>
              <a:t>Первый российский </a:t>
            </a:r>
            <a:r>
              <a:rPr b="1" lang="en-US" sz="800" spc="-1" strike="noStrike">
                <a:solidFill>
                  <a:srgbClr val="5f5f5f"/>
                </a:solidFill>
                <a:latin typeface="Verdana"/>
              </a:rPr>
              <a:t>dedicated</a:t>
            </a:r>
            <a:r>
              <a:rPr b="1" lang="ru-RU" sz="800" spc="-1" strike="noStrike">
                <a:solidFill>
                  <a:srgbClr val="5f5f5f"/>
                </a:solidFill>
                <a:latin typeface="Verdana"/>
              </a:rPr>
              <a:t> видеопорта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843280" y="2924280"/>
            <a:ext cx="1162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5f5f5f"/>
                </a:solidFill>
                <a:latin typeface="Arial"/>
              </a:rPr>
              <a:t>Онлайновый центр развлечен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43280" y="3429000"/>
            <a:ext cx="1038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3300"/>
                </a:solidFill>
                <a:latin typeface="Verdana"/>
              </a:rPr>
              <a:t>Target audie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59280" y="3860640"/>
            <a:ext cx="2881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M/F,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 14-25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y.o.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; Москва, СпБ, города-миллионники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; monthly income: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от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$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00 </a:t>
            </a: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на человека в семье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1143000"/>
            <a:ext cx="6476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Verdana"/>
              </a:rPr>
              <a:t>Techically advanced: </a:t>
            </a:r>
            <a:r>
              <a:rPr b="0" lang="ru-RU" sz="800" spc="-1" strike="noStrike">
                <a:solidFill>
                  <a:srgbClr val="5f5f5f"/>
                </a:solidFill>
                <a:latin typeface="Verdana"/>
              </a:rPr>
              <a:t>обладатель как минимум </a:t>
            </a:r>
            <a:r>
              <a:rPr b="0" lang="en-US" sz="800" spc="-1" strike="noStrike">
                <a:solidFill>
                  <a:srgbClr val="5f5f5f"/>
                </a:solidFill>
                <a:latin typeface="Verdana"/>
              </a:rPr>
              <a:t>mp3-</a:t>
            </a:r>
            <a:r>
              <a:rPr b="0" lang="ru-RU" sz="800" spc="-1" strike="noStrike">
                <a:solidFill>
                  <a:srgbClr val="5f5f5f"/>
                </a:solidFill>
                <a:latin typeface="Verdana"/>
              </a:rPr>
              <a:t>плейера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27280" y="1628640"/>
            <a:ext cx="1081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f5f5f"/>
                </a:solidFill>
                <a:latin typeface="Arial"/>
              </a:rPr>
              <a:t>Включенным в современную молодежную культуру: </a:t>
            </a: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MTV</a:t>
            </a:r>
            <a:r>
              <a:rPr b="0" lang="ru-RU" sz="800" spc="-1" strike="noStrike">
                <a:solidFill>
                  <a:srgbClr val="5f5f5f"/>
                </a:solidFill>
                <a:latin typeface="Arial"/>
              </a:rPr>
              <a:t>, цифровые медиа</a:t>
            </a: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 </a:t>
            </a:r>
            <a:r>
              <a:rPr b="0" lang="ru-RU" sz="800" spc="-1" strike="noStrike">
                <a:solidFill>
                  <a:srgbClr val="5f5f5f"/>
                </a:solidFill>
                <a:latin typeface="Arial"/>
              </a:rPr>
              <a:t>и т.п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56360" y="2349360"/>
            <a:ext cx="1028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Arial"/>
              </a:rPr>
              <a:t>В поисках новых впечатлений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443640" y="3068640"/>
            <a:ext cx="125748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Tahoma"/>
              </a:rPr>
              <a:t>Все сервисы – на расстоянии двух кликов друг от друг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443640" y="3645000"/>
            <a:ext cx="1305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Tahoma"/>
              </a:rPr>
              <a:t>Все интересное собрано на одном сайте – не нужно посещать нескольк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32000" y="2997360"/>
            <a:ext cx="12952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Уникальное сочетание сервисов, анонсов и тексто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03280" y="3500280"/>
            <a:ext cx="1297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f5f5f"/>
                </a:solidFill>
                <a:latin typeface="Tahoma"/>
              </a:rPr>
              <a:t>Не просто проведенное время, но то, что можно унести с собой: музыка, справочная информация, </a:t>
            </a: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downloadable vide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619280" y="4292640"/>
            <a:ext cx="1287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Сайт об УВЛЕЧЕНИЯХ!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92720" y="1341360"/>
            <a:ext cx="10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Casual-</a:t>
            </a:r>
            <a:r>
              <a:rPr b="0" lang="ru-RU" sz="800" spc="-1" strike="noStrike">
                <a:solidFill>
                  <a:srgbClr val="5f5f5f"/>
                </a:solidFill>
                <a:latin typeface="Tahoma"/>
              </a:rPr>
              <a:t>потребитель развлечений, не упертый фана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908000" y="2349360"/>
            <a:ext cx="91440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Осведомленность обо всем интересном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914400"/>
            <a:ext cx="912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Makes you f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164360" y="914400"/>
            <a:ext cx="1065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Says about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51640" y="50292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Benefits to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11280" y="501336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ahoma"/>
              </a:rPr>
              <a:t>What you perce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372360" y="4365720"/>
            <a:ext cx="115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4d4d4d"/>
                </a:solidFill>
                <a:latin typeface="Tahoma"/>
              </a:rPr>
              <a:t>Уникальный видео-контент: больше нигде не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523880" y="5638680"/>
            <a:ext cx="1143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Unique sales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348000" y="1197000"/>
            <a:ext cx="10065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f5f5f"/>
                </a:solidFill>
                <a:latin typeface="Tahoma"/>
              </a:rPr>
              <a:t>Частью большого комьюни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943600" y="1752480"/>
            <a:ext cx="933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5f5f5f"/>
                </a:solidFill>
                <a:latin typeface="Verdana"/>
              </a:rPr>
              <a:t>Есть свободные деньги на развлечения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843280" y="4653000"/>
            <a:ext cx="16574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f5f5f"/>
                </a:solidFill>
                <a:latin typeface="Tahoma"/>
              </a:rPr>
              <a:t>Единственный в России масштабный развлекательный портал, сочетающий видеобиблиотеку, </a:t>
            </a: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music store</a:t>
            </a:r>
            <a:r>
              <a:rPr b="0" lang="ru-RU" sz="800" spc="-1" strike="noStrike">
                <a:solidFill>
                  <a:srgbClr val="5f5f5f"/>
                </a:solidFill>
                <a:latin typeface="Tahoma"/>
              </a:rPr>
              <a:t>, афишу етс. – короче, главный и единственный ресурс такого род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32360" y="4653000"/>
            <a:ext cx="12222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5f5f5f"/>
                </a:solidFill>
                <a:latin typeface="Tahoma"/>
              </a:rPr>
              <a:t>Аккумулирует четко очерченную аудиторию, на которую рассчитаны рекламные кампании </a:t>
            </a:r>
            <a:r>
              <a:rPr b="0" lang="en-US" sz="800" spc="-1" strike="noStrike">
                <a:solidFill>
                  <a:srgbClr val="5f5f5f"/>
                </a:solidFill>
                <a:latin typeface="Tahoma"/>
              </a:rPr>
              <a:t>FMCG, </a:t>
            </a:r>
            <a:r>
              <a:rPr b="0" lang="ru-RU" sz="800" spc="-1" strike="noStrike">
                <a:solidFill>
                  <a:srgbClr val="5f5f5f"/>
                </a:solidFill>
                <a:latin typeface="Tahoma"/>
              </a:rPr>
              <a:t>пива, мобильных телефонов и т.д. и т.п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A9D105-EEE9-44FC-98C2-7EE6A47BA80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10920" y="907920"/>
            <a:ext cx="7964280" cy="35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entury"/>
              </a:rPr>
              <a:t>С</a:t>
            </a: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ПАСИБО ЗА ВНИМАНИЕ</a:t>
            </a:r>
            <a:br>
              <a:rPr sz="3200"/>
            </a:br>
            <a:br>
              <a:rPr sz="3200"/>
            </a:br>
            <a:r>
              <a:rPr b="0" lang="ru-RU" sz="2000" spc="-1" strike="noStrike">
                <a:solidFill>
                  <a:srgbClr val="666699"/>
                </a:solidFill>
                <a:latin typeface="Century"/>
              </a:rPr>
              <a:t>Тел: +7(495) 744 17 17</a:t>
            </a:r>
            <a:br>
              <a:rPr sz="2000"/>
            </a:br>
            <a:r>
              <a:rPr b="0" lang="ru-RU" sz="2000" spc="-1" strike="noStrike">
                <a:solidFill>
                  <a:srgbClr val="666699"/>
                </a:solidFill>
                <a:latin typeface="Century"/>
              </a:rPr>
              <a:t>Вице-президент по продажам и маркетингу Егор Яковлев</a:t>
            </a:r>
            <a:br>
              <a:rPr sz="2000"/>
            </a:br>
            <a:r>
              <a:rPr b="0" lang="en-US" sz="2000" spc="-1" strike="noStrike" u="sng">
                <a:solidFill>
                  <a:srgbClr val="666699"/>
                </a:solidFill>
                <a:uFillTx/>
                <a:latin typeface="Century"/>
                <a:hlinkClick r:id="rId1"/>
              </a:rPr>
              <a:t>Egor.Yakovlev@amediafilm.com</a:t>
            </a:r>
            <a:br>
              <a:rPr sz="2000"/>
            </a:br>
            <a:endParaRPr b="0" lang="en-US" sz="20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3449E-A853-4590-83CB-160BE95343C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Положение дел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Какой видеоконтент уже есть в российском и мировом интернете сегодня?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Каковы плюсы и минусы существующих схем?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"/>
              </a:rPr>
              <a:t>Куда поставщики конечных услуг планируют инвестировать ресурсы и средства?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DEF1-3644-462F-9E06-DF5B64D60E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700" spc="-1" strike="noStrike">
                <a:solidFill>
                  <a:srgbClr val="666699"/>
                </a:solidFill>
                <a:latin typeface="Century"/>
              </a:rPr>
              <a:t>Что есть сейчас</a:t>
            </a:r>
            <a:r>
              <a:rPr b="0" lang="en-US" sz="4700" spc="-1" strike="noStrike">
                <a:solidFill>
                  <a:srgbClr val="666699"/>
                </a:solidFill>
                <a:latin typeface="Century"/>
              </a:rPr>
              <a:t>?</a:t>
            </a:r>
            <a:endParaRPr b="0" lang="en-US" sz="4700" spc="-1" strike="noStrike">
              <a:solidFill>
                <a:srgbClr val="666699"/>
              </a:solidFill>
              <a:latin typeface="Centur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22F98-B4EE-41C5-831B-CDD7F1E7D62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Масяня – старый формат с новым распространением</a:t>
            </a:r>
            <a:endParaRPr b="0" lang="en-US" sz="3200" spc="-1" strike="noStrike">
              <a:solidFill>
                <a:srgbClr val="666699"/>
              </a:solidFill>
              <a:latin typeface="Century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391464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71280" y="5516640"/>
            <a:ext cx="253044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Mult.ru</a:t>
            </a:r>
            <a:endParaRPr b="0" lang="en-US" sz="2800" spc="-1" strike="noStrike">
              <a:solidFill>
                <a:srgbClr val="000000"/>
              </a:solidFill>
              <a:latin typeface="Century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40851-2832-4073-8B8C-BDD812E849E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99"/>
                </a:solidFill>
                <a:latin typeface="Century"/>
              </a:rPr>
              <a:t>corbina.tv</a:t>
            </a: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 – </a:t>
            </a:r>
            <a:r>
              <a:rPr b="0" lang="ru-RU" sz="3200" spc="-1" strike="noStrike">
                <a:solidFill>
                  <a:srgbClr val="666699"/>
                </a:solidFill>
                <a:latin typeface="Century"/>
              </a:rPr>
              <a:t>трансляции эфирных и собственных телеканалов</a:t>
            </a:r>
            <a:endParaRPr b="0" lang="en-US" sz="3200" spc="-1" strike="noStrike">
              <a:solidFill>
                <a:srgbClr val="666699"/>
              </a:solidFill>
              <a:latin typeface="Century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6265800" cy="497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F967C-4C97-4C0A-B2B5-CB1F3C40E48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6699"/>
                </a:solidFill>
                <a:latin typeface="Century"/>
              </a:rPr>
              <a:t>Video.rambler.ru </a:t>
            </a:r>
            <a:r>
              <a:rPr b="0" lang="ru-RU" sz="3600" spc="-1" strike="noStrike">
                <a:solidFill>
                  <a:srgbClr val="666699"/>
                </a:solidFill>
                <a:latin typeface="Century"/>
              </a:rPr>
              <a:t>и Рамблер-ТВ</a:t>
            </a:r>
            <a:endParaRPr b="0" lang="en-US" sz="3600" spc="-1" strike="noStrike">
              <a:solidFill>
                <a:srgbClr val="666699"/>
              </a:solidFill>
              <a:latin typeface="Century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4680000" cy="457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5619600" y="1268280"/>
            <a:ext cx="35244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ACCA3-8497-4C5C-9EF4-4B7474F2CED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99"/>
                </a:solidFill>
                <a:latin typeface="Century"/>
              </a:rPr>
              <a:t>TV.amedia.ru – </a:t>
            </a:r>
            <a:r>
              <a:rPr b="0" lang="ru-RU" sz="2400" spc="-1" strike="noStrike">
                <a:solidFill>
                  <a:srgbClr val="666699"/>
                </a:solidFill>
                <a:latin typeface="Century"/>
              </a:rPr>
              <a:t>эпизоды и репортажи со съемок</a:t>
            </a:r>
            <a:endParaRPr b="0" lang="en-US" sz="2400" spc="-1" strike="noStrike">
              <a:solidFill>
                <a:srgbClr val="666699"/>
              </a:solidFill>
              <a:latin typeface="Century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71640" y="1197000"/>
            <a:ext cx="6985080" cy="476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DB63-43FC-4D9B-9F57-9B23CB580B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3T09:04:32Z</dcterms:created>
  <dc:creator>khaliullinrd</dc:creator>
  <dc:description/>
  <dc:language>en-US</dc:language>
  <cp:lastModifiedBy>Egor Yakovlev</cp:lastModifiedBy>
  <dcterms:modified xsi:type="dcterms:W3CDTF">2006-08-23T12:38:21Z</dcterms:modified>
  <cp:revision>265</cp:revision>
  <dc:subject/>
  <dc:title>Слайд 1</dc:title>
</cp:coreProperties>
</file>