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D94-38B9-43FE-B100-D8BB3C5F5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9D1-6CC6-457A-8F0D-70C95653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317-4F68-4F56-89CF-F33DC47C4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AAF-9ACC-4F48-ADA1-A4BC2C61C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732-D846-4FB9-972C-F045822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4E7-FD4F-417D-93EB-8572EA49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2E8-3A84-4E38-827F-90DB899C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93A9-11FD-47D3-9718-A70C1858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9BA-2253-44F8-81AD-F4480100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85E-14AA-4C9D-8332-460290FF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2BD-F255-4BC7-A058-CAECDEF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45AE-90EC-4AEF-836D-C34E7959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BC0-FB23-496C-B792-E9761E01F4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7A0F-5CA4-41CD-847C-631D276E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a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91520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рнет-МАРАФОН '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2640" y="3936960"/>
            <a:ext cx="6021360" cy="2921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8000" y="3139200"/>
            <a:ext cx="564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прель-октябрь 200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5757840"/>
            <a:ext cx="31320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ймитесь своими бизнес-процесс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 получается только при выполнении полноценного бизнес-процес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76D10-E387-4368-A99A-BEDBAC5658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вратите творческую работу в бизнес-проц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работка новых товаров и другие виды творческой работы только выиграют, если привнести в них дисциплину и организов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CA6AF-5B4E-4BAF-BCFE-E88A449079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пользуйте систему контрольных показателей для совершенствования работы, а не для составления отчет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ключите измерение контрольных показателей в серьезную программу управляемого совершенствования бизн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3191B-6414-4253-B3EA-175E90CD9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мягчите организационную структу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ите руководителей работать совместно для  общего блага, а не бороться между собой за местечковые интерес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367C64-1EB9-4B87-B0D5-B102E6CFEB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 продавайте товар дистрибьюторам – продавайте конечному потребителю через н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зволяйте своим дистрибьюторам заслонить от вас конечного потребителя, того, кто платит зарплату вс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58232C-4075-4F2C-98DD-BD6EDBEC7F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ешагните корпоративные границы в поисках новы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трудничайте со всеми, с кем сможете, для снижения затрат и накладных рас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02981-8CC8-4F44-BDC0-15826E98BF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кажитесь от своей самодостаточности в системе «расширенного предприят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редоточьтесь на том, что удается лучше всего и избавьтесь от прочих операц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985D32-81E7-45C3-9C48-D361462FC4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клама в Интер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и 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660B0-8A26-4463-991F-A272262EFB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8428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Интернет-пользователей в Росс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00-2010 г.г.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 ч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27080" y="2549520"/>
            <a:ext cx="7515360" cy="325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27080" y="2549520"/>
            <a:ext cx="1800" cy="32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58680" y="5473800"/>
            <a:ext cx="7583760" cy="1440"/>
            <a:chOff x="958680" y="5473800"/>
            <a:chExt cx="7583760" cy="1440"/>
          </a:xfrm>
        </p:grpSpPr>
        <p:sp>
          <p:nvSpPr>
            <p:cNvPr id="117" name=""/>
            <p:cNvSpPr/>
            <p:nvPr/>
          </p:nvSpPr>
          <p:spPr>
            <a:xfrm>
              <a:off x="1027080" y="547380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58680" y="547380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58680" y="5146560"/>
            <a:ext cx="7583760" cy="1440"/>
            <a:chOff x="958680" y="5146560"/>
            <a:chExt cx="7583760" cy="1440"/>
          </a:xfrm>
        </p:grpSpPr>
        <p:sp>
          <p:nvSpPr>
            <p:cNvPr id="120" name=""/>
            <p:cNvSpPr/>
            <p:nvPr/>
          </p:nvSpPr>
          <p:spPr>
            <a:xfrm>
              <a:off x="1027080" y="514656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58680" y="514656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58680" y="4819680"/>
            <a:ext cx="7583760" cy="1440"/>
            <a:chOff x="958680" y="4819680"/>
            <a:chExt cx="7583760" cy="1440"/>
          </a:xfrm>
        </p:grpSpPr>
        <p:sp>
          <p:nvSpPr>
            <p:cNvPr id="123" name=""/>
            <p:cNvSpPr/>
            <p:nvPr/>
          </p:nvSpPr>
          <p:spPr>
            <a:xfrm>
              <a:off x="1027080" y="481968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58680" y="481968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58680" y="4492800"/>
            <a:ext cx="7583760" cy="1440"/>
            <a:chOff x="958680" y="4492800"/>
            <a:chExt cx="7583760" cy="1440"/>
          </a:xfrm>
        </p:grpSpPr>
        <p:sp>
          <p:nvSpPr>
            <p:cNvPr id="126" name=""/>
            <p:cNvSpPr/>
            <p:nvPr/>
          </p:nvSpPr>
          <p:spPr>
            <a:xfrm>
              <a:off x="1027080" y="449280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8680" y="449280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58680" y="4165560"/>
            <a:ext cx="7583760" cy="1440"/>
            <a:chOff x="958680" y="4165560"/>
            <a:chExt cx="7583760" cy="1440"/>
          </a:xfrm>
        </p:grpSpPr>
        <p:sp>
          <p:nvSpPr>
            <p:cNvPr id="129" name=""/>
            <p:cNvSpPr/>
            <p:nvPr/>
          </p:nvSpPr>
          <p:spPr>
            <a:xfrm>
              <a:off x="1027080" y="416556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58680" y="416556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58680" y="3855960"/>
            <a:ext cx="7583760" cy="1440"/>
            <a:chOff x="958680" y="3855960"/>
            <a:chExt cx="7583760" cy="1440"/>
          </a:xfrm>
        </p:grpSpPr>
        <p:sp>
          <p:nvSpPr>
            <p:cNvPr id="132" name=""/>
            <p:cNvSpPr/>
            <p:nvPr/>
          </p:nvSpPr>
          <p:spPr>
            <a:xfrm>
              <a:off x="1027080" y="385596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58680" y="385596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58680" y="3529080"/>
            <a:ext cx="7583760" cy="1440"/>
            <a:chOff x="958680" y="3529080"/>
            <a:chExt cx="7583760" cy="1440"/>
          </a:xfrm>
        </p:grpSpPr>
        <p:sp>
          <p:nvSpPr>
            <p:cNvPr id="135" name=""/>
            <p:cNvSpPr/>
            <p:nvPr/>
          </p:nvSpPr>
          <p:spPr>
            <a:xfrm>
              <a:off x="1027080" y="352908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58680" y="352908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958680" y="3201840"/>
            <a:ext cx="7583760" cy="1440"/>
            <a:chOff x="958680" y="3201840"/>
            <a:chExt cx="7583760" cy="1440"/>
          </a:xfrm>
        </p:grpSpPr>
        <p:sp>
          <p:nvSpPr>
            <p:cNvPr id="138" name=""/>
            <p:cNvSpPr/>
            <p:nvPr/>
          </p:nvSpPr>
          <p:spPr>
            <a:xfrm>
              <a:off x="1027080" y="320184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58680" y="320184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958680" y="2876400"/>
            <a:ext cx="7583760" cy="1440"/>
            <a:chOff x="958680" y="2876400"/>
            <a:chExt cx="7583760" cy="1440"/>
          </a:xfrm>
        </p:grpSpPr>
        <p:sp>
          <p:nvSpPr>
            <p:cNvPr id="141" name=""/>
            <p:cNvSpPr/>
            <p:nvPr/>
          </p:nvSpPr>
          <p:spPr>
            <a:xfrm>
              <a:off x="1027080" y="287640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58680" y="287640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958680" y="2549520"/>
            <a:ext cx="7583760" cy="1440"/>
            <a:chOff x="958680" y="2549520"/>
            <a:chExt cx="7583760" cy="1440"/>
          </a:xfrm>
        </p:grpSpPr>
        <p:sp>
          <p:nvSpPr>
            <p:cNvPr id="144" name=""/>
            <p:cNvSpPr/>
            <p:nvPr/>
          </p:nvSpPr>
          <p:spPr>
            <a:xfrm>
              <a:off x="1027080" y="2549520"/>
              <a:ext cx="751536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58680" y="2549520"/>
              <a:ext cx="68400" cy="1440"/>
            </a:xfrm>
            <a:prstGeom prst="line">
              <a:avLst/>
            </a:prstGeom>
            <a:ln w="9360">
              <a:solidFill>
                <a:srgbClr val="c0c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958680" y="5800320"/>
            <a:ext cx="7585200" cy="68040"/>
            <a:chOff x="958680" y="5800320"/>
            <a:chExt cx="7585200" cy="68040"/>
          </a:xfrm>
        </p:grpSpPr>
        <p:sp>
          <p:nvSpPr>
            <p:cNvPr id="147" name=""/>
            <p:cNvSpPr/>
            <p:nvPr/>
          </p:nvSpPr>
          <p:spPr>
            <a:xfrm>
              <a:off x="958680" y="5800680"/>
              <a:ext cx="6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27080" y="5800680"/>
              <a:ext cx="7515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1027080" y="5800320"/>
              <a:ext cx="1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171612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38932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3078000" y="5800320"/>
              <a:ext cx="1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376884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444024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12928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80248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491160" y="5800320"/>
              <a:ext cx="1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180200" y="5800320"/>
              <a:ext cx="1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85340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8542440" y="5800320"/>
              <a:ext cx="144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86960" y="56624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6960" y="533556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00868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468144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435600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02912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371952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339264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306540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273852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2411280"/>
            <a:ext cx="299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16000" y="5989680"/>
            <a:ext cx="5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63640" y="5989680"/>
            <a:ext cx="58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5989680"/>
            <a:ext cx="62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5989680"/>
            <a:ext cx="59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1280" y="5989680"/>
            <a:ext cx="54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00720" y="5989680"/>
            <a:ext cx="58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9640" y="5989680"/>
            <a:ext cx="55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5989680"/>
            <a:ext cx="58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88000" y="5989680"/>
            <a:ext cx="549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36000" y="5989680"/>
            <a:ext cx="59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5989680"/>
            <a:ext cx="54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7680" y="5003640"/>
            <a:ext cx="432000" cy="797040"/>
            <a:chOff x="1147680" y="5003640"/>
            <a:chExt cx="432000" cy="797040"/>
          </a:xfrm>
        </p:grpSpPr>
        <p:sp>
          <p:nvSpPr>
            <p:cNvPr id="184" name=""/>
            <p:cNvSpPr/>
            <p:nvPr/>
          </p:nvSpPr>
          <p:spPr>
            <a:xfrm>
              <a:off x="1305000" y="500364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47680" y="5353200"/>
              <a:ext cx="432000" cy="44748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835280" y="4869000"/>
            <a:ext cx="412560" cy="934920"/>
            <a:chOff x="1835280" y="4869000"/>
            <a:chExt cx="412560" cy="934920"/>
          </a:xfrm>
        </p:grpSpPr>
        <p:sp>
          <p:nvSpPr>
            <p:cNvPr id="187" name=""/>
            <p:cNvSpPr/>
            <p:nvPr/>
          </p:nvSpPr>
          <p:spPr>
            <a:xfrm>
              <a:off x="1990440" y="4869000"/>
              <a:ext cx="131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35280" y="5218200"/>
              <a:ext cx="412560" cy="5857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556000" y="4797360"/>
            <a:ext cx="430200" cy="1003320"/>
            <a:chOff x="2556000" y="4797360"/>
            <a:chExt cx="430200" cy="1003320"/>
          </a:xfrm>
        </p:grpSpPr>
        <p:sp>
          <p:nvSpPr>
            <p:cNvPr id="190" name=""/>
            <p:cNvSpPr/>
            <p:nvPr/>
          </p:nvSpPr>
          <p:spPr>
            <a:xfrm>
              <a:off x="2638800" y="47973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56000" y="5146560"/>
              <a:ext cx="430200" cy="6541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13000" y="4681440"/>
            <a:ext cx="431640" cy="1123920"/>
            <a:chOff x="3213000" y="4681440"/>
            <a:chExt cx="431640" cy="1123920"/>
          </a:xfrm>
        </p:grpSpPr>
        <p:sp>
          <p:nvSpPr>
            <p:cNvPr id="193" name=""/>
            <p:cNvSpPr/>
            <p:nvPr/>
          </p:nvSpPr>
          <p:spPr>
            <a:xfrm>
              <a:off x="3297240" y="46814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13000" y="5030640"/>
              <a:ext cx="431640" cy="77472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60840" y="4005360"/>
            <a:ext cx="442440" cy="1794960"/>
            <a:chOff x="4560840" y="4005360"/>
            <a:chExt cx="442440" cy="1794960"/>
          </a:xfrm>
        </p:grpSpPr>
        <p:sp>
          <p:nvSpPr>
            <p:cNvPr id="196" name=""/>
            <p:cNvSpPr/>
            <p:nvPr/>
          </p:nvSpPr>
          <p:spPr>
            <a:xfrm>
              <a:off x="4620960" y="4005360"/>
              <a:ext cx="318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FreeSetDemiBoldCTT"/>
                </a:rPr>
                <a:t>2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60840" y="4357800"/>
              <a:ext cx="442440" cy="1442520"/>
            </a:xfrm>
            <a:prstGeom prst="rect">
              <a:avLst/>
            </a:prstGeom>
            <a:gradFill rotWithShape="0">
              <a:gsLst>
                <a:gs pos="0">
                  <a:srgbClr val="780300"/>
                </a:gs>
                <a:gs pos="50000">
                  <a:srgbClr val="f80802"/>
                </a:gs>
                <a:gs pos="100000">
                  <a:srgbClr val="78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249880" y="3500280"/>
            <a:ext cx="414360" cy="2300040"/>
            <a:chOff x="5249880" y="3500280"/>
            <a:chExt cx="414360" cy="2300040"/>
          </a:xfrm>
        </p:grpSpPr>
        <p:sp>
          <p:nvSpPr>
            <p:cNvPr id="199" name=""/>
            <p:cNvSpPr/>
            <p:nvPr/>
          </p:nvSpPr>
          <p:spPr>
            <a:xfrm>
              <a:off x="5338800" y="3500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49880" y="3869640"/>
              <a:ext cx="414360" cy="19306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923080" y="3141720"/>
            <a:ext cx="430200" cy="2658600"/>
            <a:chOff x="5923080" y="3141720"/>
            <a:chExt cx="430200" cy="2658600"/>
          </a:xfrm>
        </p:grpSpPr>
        <p:sp>
          <p:nvSpPr>
            <p:cNvPr id="202" name=""/>
            <p:cNvSpPr/>
            <p:nvPr/>
          </p:nvSpPr>
          <p:spPr>
            <a:xfrm>
              <a:off x="6010200" y="31417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3080" y="3504240"/>
              <a:ext cx="430200" cy="22960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611760" y="2921040"/>
            <a:ext cx="432000" cy="2879640"/>
            <a:chOff x="6611760" y="2921040"/>
            <a:chExt cx="432000" cy="2879640"/>
          </a:xfrm>
        </p:grpSpPr>
        <p:sp>
          <p:nvSpPr>
            <p:cNvPr id="205" name=""/>
            <p:cNvSpPr/>
            <p:nvPr/>
          </p:nvSpPr>
          <p:spPr>
            <a:xfrm>
              <a:off x="6694560" y="29210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3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11760" y="3271680"/>
              <a:ext cx="432000" cy="25290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00800" y="2595600"/>
            <a:ext cx="414360" cy="3205080"/>
            <a:chOff x="7300800" y="2595600"/>
            <a:chExt cx="414360" cy="3205080"/>
          </a:xfrm>
        </p:grpSpPr>
        <p:sp>
          <p:nvSpPr>
            <p:cNvPr id="208" name=""/>
            <p:cNvSpPr/>
            <p:nvPr/>
          </p:nvSpPr>
          <p:spPr>
            <a:xfrm>
              <a:off x="7385400" y="259560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00800" y="2944800"/>
              <a:ext cx="414360" cy="28558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974000" y="2457360"/>
            <a:ext cx="430200" cy="3343320"/>
            <a:chOff x="7974000" y="2457360"/>
            <a:chExt cx="430200" cy="3343320"/>
          </a:xfrm>
        </p:grpSpPr>
        <p:sp>
          <p:nvSpPr>
            <p:cNvPr id="211" name=""/>
            <p:cNvSpPr/>
            <p:nvPr/>
          </p:nvSpPr>
          <p:spPr>
            <a:xfrm>
              <a:off x="8056800" y="245736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974000" y="2806560"/>
              <a:ext cx="430200" cy="29941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99cc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24360" y="4292640"/>
            <a:ext cx="412560" cy="1520640"/>
            <a:chOff x="3924360" y="4292640"/>
            <a:chExt cx="412560" cy="1520640"/>
          </a:xfrm>
        </p:grpSpPr>
        <p:sp>
          <p:nvSpPr>
            <p:cNvPr id="214" name=""/>
            <p:cNvSpPr/>
            <p:nvPr/>
          </p:nvSpPr>
          <p:spPr>
            <a:xfrm>
              <a:off x="4008600" y="4292640"/>
              <a:ext cx="262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FreeSetDemiBoldCTT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24360" y="4643280"/>
              <a:ext cx="412560" cy="1170000"/>
            </a:xfrm>
            <a:prstGeom prst="rect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324400" y="5335560"/>
            <a:ext cx="3005280" cy="368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8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ГН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596360" y="6315120"/>
            <a:ext cx="154764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CCA6B-EAE1-4059-A665-1D38382131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341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инамика российского рынка рекламы, 2000-2006 г.г., $ мл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8360" y="1773360"/>
          <a:ext cx="8315280" cy="3887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773360"/>
                    <a:ext cx="83152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755640" y="5589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980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8252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488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724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3852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9088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43240" y="5589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00000" y="472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79640" y="4365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364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35640" y="3141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16720" y="2565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740720" y="191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D14A0-9EF4-4EC3-8761-E9F3F99051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новационные проекты Руне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140360" y="50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рсен Чичи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ректор по развитию бизнеса и 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012000" y="5757840"/>
            <a:ext cx="3132000" cy="110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5F641-F70C-46AD-AC31-6EF05AF76A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484280"/>
          <a:ext cx="8785440" cy="4638600"/>
        </p:xfrm>
        <a:graphic>
          <a:graphicData uri="http://schemas.openxmlformats.org/drawingml/2006/table">
            <a:tbl>
              <a:tblPr/>
              <a:tblGrid>
                <a:gridCol w="703440"/>
                <a:gridCol w="1673280"/>
                <a:gridCol w="608040"/>
                <a:gridCol w="968400"/>
                <a:gridCol w="965160"/>
                <a:gridCol w="968400"/>
                <a:gridCol w="963360"/>
                <a:gridCol w="970200"/>
                <a:gridCol w="965160"/>
              </a:tblGrid>
              <a:tr h="218880">
                <a:tc rowSpan="2"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7"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НЫЕ ЗАТРАТЫ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ЛР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4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5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ЯПО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КИТ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7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ЮЖ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ОРЕ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КАНА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АВСТР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6100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БРАЗИ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НИДЕРЛА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МЕКС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ПОЛЬ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БЕЛЬ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18880"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8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ШВЕЙЦ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0" rIns="18000" tIns="18000" bIns="180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ОССИЯ И МИРОВОЙ РЕКЛАМ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3ADE8-DDB7-4662-8E1C-85104DB4A5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324000" y="1916280"/>
          <a:ext cx="8569080" cy="4173480"/>
        </p:xfrm>
        <a:graphic>
          <a:graphicData uri="http://schemas.openxmlformats.org/drawingml/2006/table">
            <a:tbl>
              <a:tblPr/>
              <a:tblGrid>
                <a:gridCol w="798480"/>
                <a:gridCol w="1720800"/>
                <a:gridCol w="698400"/>
                <a:gridCol w="874800"/>
                <a:gridCol w="884160"/>
                <a:gridCol w="882720"/>
                <a:gridCol w="942840"/>
                <a:gridCol w="941400"/>
                <a:gridCol w="82548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С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РА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НЫЕ ЗАТРАТЫ,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 </a:t>
                      </a: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ЛР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ГЕРМ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9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ВЕЛИКОБРИТ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ФРАН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ИТАЛ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ИС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83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СИЯ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НИДЕРЛА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ПОЛЬ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БЕЛЬ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ГРЕ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ШВЕЙЦА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АВС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НОРВЕ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0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eeSetLightCTT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0" y="119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РОССИЯ И ЕВРОПЕЙСКИЙ РЕКЛАМНЫЙ 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E4C9B-6AED-4096-8BF4-83777EA99F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755640" y="1555920"/>
            <a:ext cx="777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44480" y="2154240"/>
            <a:ext cx="1360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eeSetDemiBoldCTT"/>
              </a:rPr>
              <a:t>ИНТЕРНЕТ</a:t>
            </a: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eeSetDemiBoldCTT"/>
              </a:rPr>
              <a:t>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44480" y="2143080"/>
            <a:ext cx="1360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eeSetDemiBoldCTT"/>
              </a:rPr>
              <a:t>ИНТЕРНЕТ</a:t>
            </a:r>
            <a:r>
              <a:rPr b="0" lang="en-US" sz="2000" spc="-1" strike="noStrike">
                <a:solidFill>
                  <a:srgbClr val="ff0000"/>
                </a:solidFill>
                <a:latin typeface="FreeSetDemiBoldCT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eeSetDemiBoldCTT"/>
              </a:rPr>
              <a:t>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268280"/>
            <a:ext cx="8496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ределение рекламных бюджетов по сегментам в 2000-2005 г.г.,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648320" y="2637000"/>
          <a:ext cx="4495680" cy="271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637000"/>
                    <a:ext cx="4495680" cy="27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95280" y="2624040"/>
          <a:ext cx="4172040" cy="2613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2624040"/>
                    <a:ext cx="417204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395280" y="5732640"/>
            <a:ext cx="4172040" cy="213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reeSetLightCTT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07840" y="2563920"/>
            <a:ext cx="401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ТВ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2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48240" y="4667400"/>
            <a:ext cx="75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РАДИО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88160" y="4956120"/>
            <a:ext cx="822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ПРЕССА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4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1400" y="2276640"/>
            <a:ext cx="14464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НАРУЖНАЯ РЕКЛАМА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003640" y="5732640"/>
            <a:ext cx="3888000" cy="213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FreeSetLightCTT"/>
              </a:rPr>
              <a:t>200</a:t>
            </a:r>
            <a:r>
              <a:rPr b="1" lang="en-US" sz="1400" spc="-1" strike="noStrike">
                <a:solidFill>
                  <a:srgbClr val="ffffff"/>
                </a:solidFill>
                <a:latin typeface="FreeSetLightCTT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5640" y="2938320"/>
            <a:ext cx="401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ТВ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47</a:t>
            </a: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593040" y="5084640"/>
            <a:ext cx="75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РАДИО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42520" y="4797360"/>
            <a:ext cx="822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ПРЕССА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0240" y="2622600"/>
            <a:ext cx="1444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НАРУЖНАЯ РЕКЛАМА</a:t>
            </a:r>
            <a:r>
              <a:rPr b="0" lang="en-US" sz="1600" spc="-1" strike="noStrike">
                <a:solidFill>
                  <a:srgbClr val="000000"/>
                </a:solidFill>
                <a:latin typeface="FreeSetDemiBoldCT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eeSetDemiBoldCTT"/>
              </a:rPr>
              <a:t>1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4CB06-0395-4976-AA04-F3BC8110E1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85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5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003640" y="2781360"/>
            <a:ext cx="2101680" cy="2783160"/>
            <a:chOff x="5003640" y="2781360"/>
            <a:chExt cx="2101680" cy="2783160"/>
          </a:xfrm>
        </p:grpSpPr>
        <p:sp>
          <p:nvSpPr>
            <p:cNvPr id="278" name=""/>
            <p:cNvSpPr/>
            <p:nvPr/>
          </p:nvSpPr>
          <p:spPr>
            <a:xfrm>
              <a:off x="5003640" y="2781360"/>
              <a:ext cx="2101680" cy="2352600"/>
            </a:xfrm>
            <a:prstGeom prst="rect">
              <a:avLst/>
            </a:prstGeom>
            <a:gradFill rotWithShape="0">
              <a:gsLst>
                <a:gs pos="0">
                  <a:srgbClr val="6d0000"/>
                </a:gs>
                <a:gs pos="50000">
                  <a:srgbClr val="ee0000"/>
                </a:gs>
                <a:gs pos="100000">
                  <a:srgbClr val="6d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78200" y="5259240"/>
              <a:ext cx="936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0" y="1628640"/>
            <a:ext cx="9036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 – самый динамично развивающийся сегмент мирового рынка рекла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482920" y="3271680"/>
            <a:ext cx="2101680" cy="2292840"/>
            <a:chOff x="2482920" y="3271680"/>
            <a:chExt cx="2101680" cy="2292840"/>
          </a:xfrm>
        </p:grpSpPr>
        <p:sp>
          <p:nvSpPr>
            <p:cNvPr id="282" name=""/>
            <p:cNvSpPr/>
            <p:nvPr/>
          </p:nvSpPr>
          <p:spPr>
            <a:xfrm>
              <a:off x="3130200" y="5259240"/>
              <a:ext cx="93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82920" y="3271680"/>
              <a:ext cx="2101680" cy="1849320"/>
            </a:xfrm>
            <a:prstGeom prst="rect">
              <a:avLst/>
            </a:prstGeom>
            <a:gradFill rotWithShape="0">
              <a:gsLst>
                <a:gs pos="0">
                  <a:srgbClr val="6d0000"/>
                </a:gs>
                <a:gs pos="50000">
                  <a:srgbClr val="ee0000"/>
                </a:gs>
                <a:gs pos="100000">
                  <a:srgbClr val="6d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383080" y="3781440"/>
            <a:ext cx="1309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FreeSetDemiBoldCTT"/>
              </a:rPr>
              <a:t>+</a:t>
            </a:r>
            <a:r>
              <a:rPr b="0" lang="en-US" sz="2400" spc="-1" strike="noStrike">
                <a:solidFill>
                  <a:srgbClr val="eaeaea"/>
                </a:solidFill>
                <a:latin typeface="FreeSetDemiBoldCTT"/>
              </a:rPr>
              <a:t>22.4</a:t>
            </a:r>
            <a:r>
              <a:rPr b="1" lang="en-US" sz="2400" spc="-1" strike="noStrike">
                <a:solidFill>
                  <a:srgbClr val="eaeaea"/>
                </a:solidFill>
                <a:latin typeface="FreeSetDemiBoldCT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29000" y="279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FreeSetDemiBoldCTT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FreeSetDemiBoldCTT"/>
              </a:rPr>
              <a:t>$</a:t>
            </a:r>
            <a:r>
              <a:rPr b="0" lang="ru-RU" sz="1800" spc="-1" strike="noStrike">
                <a:solidFill>
                  <a:srgbClr val="ff0000"/>
                </a:solidFill>
                <a:latin typeface="FreeSetDemiBoldCTT"/>
              </a:rPr>
              <a:t> 13,9 МЛ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03640" y="2316240"/>
            <a:ext cx="21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FreeSetDemiBoldCTT"/>
              </a:rPr>
              <a:t>$ </a:t>
            </a:r>
            <a:r>
              <a:rPr b="0" lang="ru-RU" sz="1800" spc="-1" strike="noStrike">
                <a:solidFill>
                  <a:srgbClr val="ff0000"/>
                </a:solidFill>
                <a:latin typeface="FreeSetDemiBoldCTT"/>
              </a:rPr>
              <a:t>17,0 МЛР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08360" y="5711760"/>
            <a:ext cx="216000" cy="216000"/>
          </a:xfrm>
          <a:prstGeom prst="rect">
            <a:avLst/>
          </a:prstGeom>
          <a:gradFill rotWithShape="0">
            <a:gsLst>
              <a:gs pos="0">
                <a:srgbClr val="f80802"/>
              </a:gs>
              <a:gs pos="100000">
                <a:srgbClr val="72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24360" y="5661000"/>
            <a:ext cx="21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eeSetDemiBoldCTT"/>
              </a:rPr>
              <a:t>ИНТЕРНЕТ-РЕКЛ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11640" y="6021720"/>
            <a:ext cx="493236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FreeSetDemiBoldCTT"/>
              </a:rPr>
              <a:t>ИСТОЧНИК</a:t>
            </a:r>
            <a:r>
              <a:rPr b="1" i="1" lang="en-US" sz="1000" spc="-1" strike="noStrike">
                <a:solidFill>
                  <a:srgbClr val="000000"/>
                </a:solidFill>
                <a:latin typeface="FreeSetDemiBoldCTT"/>
              </a:rPr>
              <a:t>:   ZENITHOPTIMEDIA - ADVERTISING EXPENDITURE FORECAS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956720" y="6440400"/>
            <a:ext cx="118728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93612-F2A9-412E-ABB2-C74706FCE9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426400" y="3533040"/>
            <a:ext cx="1000080" cy="1008000"/>
          </a:xfrm>
          <a:prstGeom prst="rightArrow">
            <a:avLst>
              <a:gd name="adj1" fmla="val 44657"/>
              <a:gd name="adj2" fmla="val 41917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4010760" y="2812320"/>
            <a:ext cx="1000080" cy="1008000"/>
          </a:xfrm>
          <a:prstGeom prst="rightArrow">
            <a:avLst>
              <a:gd name="adj1" fmla="val 44657"/>
              <a:gd name="adj2" fmla="val 41917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5579280" y="2301120"/>
            <a:ext cx="1000080" cy="1008000"/>
          </a:xfrm>
          <a:prstGeom prst="rightArrow">
            <a:avLst>
              <a:gd name="adj1" fmla="val 44657"/>
              <a:gd name="adj2" fmla="val 41917"/>
            </a:avLst>
          </a:prstGeom>
          <a:gradFill rotWithShape="0">
            <a:gsLst>
              <a:gs pos="0">
                <a:srgbClr val="ff0000"/>
              </a:gs>
              <a:gs pos="100000">
                <a:srgbClr val="ff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413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Интернет-рекламы в общем объеме мирового рынка рекламы в 2000, 2005, 2007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75320" y="3247920"/>
            <a:ext cx="1008000" cy="235296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006800" y="5726160"/>
            <a:ext cx="93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90960" y="3738600"/>
            <a:ext cx="1008000" cy="184932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10240" y="422928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eeSetDemiBoldCTT"/>
              </a:rPr>
              <a:t>5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91080" y="5726160"/>
            <a:ext cx="137628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7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eeSetDemiBoldCTT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5732640"/>
            <a:ext cx="93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eeSetDemiBoldCTT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22440" y="4392720"/>
            <a:ext cx="1008000" cy="120168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27320" y="456264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eeSetDemiBoldCTT"/>
              </a:rPr>
              <a:t>4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22440" y="4879800"/>
            <a:ext cx="93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eeSetDemiBoldCTT"/>
              </a:rPr>
              <a:t>2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6166080"/>
            <a:ext cx="28432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FreeSetDemiBoldCTT"/>
              </a:rPr>
              <a:t>ИСТОЧНИК</a:t>
            </a:r>
            <a:r>
              <a:rPr b="0" i="1" lang="en-US" sz="1000" spc="-1" strike="noStrike">
                <a:solidFill>
                  <a:srgbClr val="000000"/>
                </a:solidFill>
                <a:latin typeface="FreeSetDemiBoldCTT"/>
              </a:rPr>
              <a:t>:   ZENITHOPTIMED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7885080" y="6415200"/>
            <a:ext cx="1258920" cy="44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B7D26-E14B-4E4C-96BE-F50D6C00A9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50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6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55640" y="3429000"/>
            <a:ext cx="76327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В США, КАНАДЕ, АВСТРАЛИИ, ДАНИИ ДОЛЯ ИНТЕРНЕТ – РЕКЛАМЫ БОЛЬШЕ ДО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НАРУЖНОЙ РЕКЛА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В ВЕЛИКОБРИТАНИИ, ШВЕЦИИ, ЮЖНОЙ КОРЕЕ, НОРВЕГИИ ДОЛЯ ИНТЕРНЕТ – РЕКЛАМЫ БОЛЬШЕ ДОЛИ РЕКЛАМЫ 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РАД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2205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ИНТЕРНЕТ ОПЕРЕЖАЕТ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Т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РАДИЦИОННЫЕ РЕКЛАМОНОС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5F7C0-04A8-496E-A7B3-D9FEFE7DF2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11280" y="1773360"/>
            <a:ext cx="820872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 anchorCtr="1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НЕТ - САМЫЙ БЫСТРОРАСТУЩИЙ РЕКЛАМОНОСИТЕЛЬ В РОСС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объемов Интернет-рекламы в России составля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80-100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год в течении пяти последни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99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 аудитории Интернета – не мене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0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нет име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УЮ КАЧЕСТВЕНН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удиторию по срав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355680"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радиционными мед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9D089-74F2-407C-B431-9280506A3C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557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намика объемов Интернет-рекламы в России в 2001-2006 г.г., $ мл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" y="1916280"/>
            <a:ext cx="8496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0000" bIns="0" anchor="t" anchorCtr="1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2001г. по 2006 г. рекламный рынок России вырос в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4 РА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сегмент Интернет-рекламы –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20 РА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12880" y="3306600"/>
            <a:ext cx="6183360" cy="243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12880" y="3306600"/>
            <a:ext cx="1800" cy="243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658880" y="5491080"/>
            <a:ext cx="6237360" cy="1440"/>
            <a:chOff x="1658880" y="5491080"/>
            <a:chExt cx="6237360" cy="1440"/>
          </a:xfrm>
        </p:grpSpPr>
        <p:sp>
          <p:nvSpPr>
            <p:cNvPr id="330" name=""/>
            <p:cNvSpPr/>
            <p:nvPr/>
          </p:nvSpPr>
          <p:spPr>
            <a:xfrm>
              <a:off x="1712880" y="549108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58880" y="549108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58880" y="5257800"/>
            <a:ext cx="6237360" cy="1440"/>
            <a:chOff x="1658880" y="5257800"/>
            <a:chExt cx="6237360" cy="1440"/>
          </a:xfrm>
        </p:grpSpPr>
        <p:sp>
          <p:nvSpPr>
            <p:cNvPr id="333" name=""/>
            <p:cNvSpPr/>
            <p:nvPr/>
          </p:nvSpPr>
          <p:spPr>
            <a:xfrm>
              <a:off x="1712880" y="525780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8880" y="525780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658880" y="5010120"/>
            <a:ext cx="6237360" cy="1440"/>
            <a:chOff x="1658880" y="5010120"/>
            <a:chExt cx="6237360" cy="1440"/>
          </a:xfrm>
        </p:grpSpPr>
        <p:sp>
          <p:nvSpPr>
            <p:cNvPr id="336" name=""/>
            <p:cNvSpPr/>
            <p:nvPr/>
          </p:nvSpPr>
          <p:spPr>
            <a:xfrm>
              <a:off x="1712880" y="501012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658880" y="501012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658880" y="4775040"/>
            <a:ext cx="6237360" cy="1440"/>
            <a:chOff x="1658880" y="4775040"/>
            <a:chExt cx="6237360" cy="1440"/>
          </a:xfrm>
        </p:grpSpPr>
        <p:sp>
          <p:nvSpPr>
            <p:cNvPr id="339" name=""/>
            <p:cNvSpPr/>
            <p:nvPr/>
          </p:nvSpPr>
          <p:spPr>
            <a:xfrm>
              <a:off x="1712880" y="477504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8880" y="477504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658880" y="4529160"/>
            <a:ext cx="6237360" cy="1440"/>
            <a:chOff x="1658880" y="4529160"/>
            <a:chExt cx="6237360" cy="1440"/>
          </a:xfrm>
        </p:grpSpPr>
        <p:sp>
          <p:nvSpPr>
            <p:cNvPr id="342" name=""/>
            <p:cNvSpPr/>
            <p:nvPr/>
          </p:nvSpPr>
          <p:spPr>
            <a:xfrm>
              <a:off x="1712880" y="452916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58880" y="452916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658880" y="4282920"/>
            <a:ext cx="6237360" cy="1440"/>
            <a:chOff x="1658880" y="4282920"/>
            <a:chExt cx="6237360" cy="1440"/>
          </a:xfrm>
        </p:grpSpPr>
        <p:sp>
          <p:nvSpPr>
            <p:cNvPr id="345" name=""/>
            <p:cNvSpPr/>
            <p:nvPr/>
          </p:nvSpPr>
          <p:spPr>
            <a:xfrm>
              <a:off x="1712880" y="428292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8880" y="428292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658880" y="4035600"/>
            <a:ext cx="6237360" cy="1440"/>
            <a:chOff x="1658880" y="4035600"/>
            <a:chExt cx="6237360" cy="1440"/>
          </a:xfrm>
        </p:grpSpPr>
        <p:sp>
          <p:nvSpPr>
            <p:cNvPr id="348" name=""/>
            <p:cNvSpPr/>
            <p:nvPr/>
          </p:nvSpPr>
          <p:spPr>
            <a:xfrm>
              <a:off x="1712880" y="403560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58880" y="403560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1658880" y="3787920"/>
            <a:ext cx="6237360" cy="1440"/>
            <a:chOff x="1658880" y="3787920"/>
            <a:chExt cx="6237360" cy="1440"/>
          </a:xfrm>
        </p:grpSpPr>
        <p:sp>
          <p:nvSpPr>
            <p:cNvPr id="351" name=""/>
            <p:cNvSpPr/>
            <p:nvPr/>
          </p:nvSpPr>
          <p:spPr>
            <a:xfrm>
              <a:off x="1712880" y="378792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8880" y="378792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658880" y="3554280"/>
            <a:ext cx="6237360" cy="1440"/>
            <a:chOff x="1658880" y="3554280"/>
            <a:chExt cx="6237360" cy="1440"/>
          </a:xfrm>
        </p:grpSpPr>
        <p:sp>
          <p:nvSpPr>
            <p:cNvPr id="354" name=""/>
            <p:cNvSpPr/>
            <p:nvPr/>
          </p:nvSpPr>
          <p:spPr>
            <a:xfrm>
              <a:off x="1712880" y="355428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58880" y="355428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658880" y="3335400"/>
            <a:ext cx="6237360" cy="1440"/>
            <a:chOff x="1658880" y="3335400"/>
            <a:chExt cx="6237360" cy="1440"/>
          </a:xfrm>
        </p:grpSpPr>
        <p:sp>
          <p:nvSpPr>
            <p:cNvPr id="357" name=""/>
            <p:cNvSpPr/>
            <p:nvPr/>
          </p:nvSpPr>
          <p:spPr>
            <a:xfrm>
              <a:off x="1712880" y="3335400"/>
              <a:ext cx="618336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8880" y="3335400"/>
              <a:ext cx="54000" cy="1440"/>
            </a:xfrm>
            <a:prstGeom prst="line">
              <a:avLst/>
            </a:prstGeom>
            <a:ln w="0">
              <a:solidFill>
                <a:srgbClr val="c0c0c0"/>
              </a:solidFill>
              <a:prstDash val="lg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658880" y="5738760"/>
            <a:ext cx="6238800" cy="55440"/>
            <a:chOff x="1658880" y="5738760"/>
            <a:chExt cx="6238800" cy="55440"/>
          </a:xfrm>
        </p:grpSpPr>
        <p:sp>
          <p:nvSpPr>
            <p:cNvPr id="360" name=""/>
            <p:cNvSpPr/>
            <p:nvPr/>
          </p:nvSpPr>
          <p:spPr>
            <a:xfrm>
              <a:off x="1658880" y="5738760"/>
              <a:ext cx="54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12880" y="5738760"/>
              <a:ext cx="618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71288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4464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77496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80528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83560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6865920" y="5738760"/>
              <a:ext cx="180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896240" y="5738760"/>
              <a:ext cx="1440" cy="5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379160" y="5629320"/>
            <a:ext cx="14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258200" y="53816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8200" y="514836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58200" y="490068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58200" y="46530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258200" y="44197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58200" y="41720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58200" y="392580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8200" y="367812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58200" y="3444840"/>
            <a:ext cx="29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43720" y="3197160"/>
            <a:ext cx="43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eeSetDemiBoldCT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9160" y="5614920"/>
            <a:ext cx="626760" cy="579960"/>
            <a:chOff x="1919160" y="5614920"/>
            <a:chExt cx="626760" cy="579960"/>
          </a:xfrm>
        </p:grpSpPr>
        <p:sp>
          <p:nvSpPr>
            <p:cNvPr id="381" name=""/>
            <p:cNvSpPr/>
            <p:nvPr/>
          </p:nvSpPr>
          <p:spPr>
            <a:xfrm>
              <a:off x="195624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19160" y="5614920"/>
              <a:ext cx="626760" cy="1238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949480" y="5478480"/>
            <a:ext cx="626760" cy="716400"/>
            <a:chOff x="2949480" y="5478480"/>
            <a:chExt cx="626760" cy="716400"/>
          </a:xfrm>
        </p:grpSpPr>
        <p:sp>
          <p:nvSpPr>
            <p:cNvPr id="384" name=""/>
            <p:cNvSpPr/>
            <p:nvPr/>
          </p:nvSpPr>
          <p:spPr>
            <a:xfrm>
              <a:off x="298656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49480" y="5478480"/>
              <a:ext cx="626760" cy="26028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979800" y="5299200"/>
            <a:ext cx="626760" cy="895680"/>
            <a:chOff x="3979800" y="5299200"/>
            <a:chExt cx="626760" cy="895680"/>
          </a:xfrm>
        </p:grpSpPr>
        <p:sp>
          <p:nvSpPr>
            <p:cNvPr id="387" name=""/>
            <p:cNvSpPr/>
            <p:nvPr/>
          </p:nvSpPr>
          <p:spPr>
            <a:xfrm>
              <a:off x="401688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79800" y="5299200"/>
              <a:ext cx="626760" cy="43956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5010120" y="4848120"/>
            <a:ext cx="626760" cy="1346760"/>
            <a:chOff x="5010120" y="4848120"/>
            <a:chExt cx="626760" cy="1346760"/>
          </a:xfrm>
        </p:grpSpPr>
        <p:sp>
          <p:nvSpPr>
            <p:cNvPr id="390" name=""/>
            <p:cNvSpPr/>
            <p:nvPr/>
          </p:nvSpPr>
          <p:spPr>
            <a:xfrm>
              <a:off x="504720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10120" y="4848120"/>
              <a:ext cx="626760" cy="89064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040440" y="4273560"/>
            <a:ext cx="626760" cy="1921320"/>
            <a:chOff x="6040440" y="4273560"/>
            <a:chExt cx="626760" cy="1921320"/>
          </a:xfrm>
        </p:grpSpPr>
        <p:sp>
          <p:nvSpPr>
            <p:cNvPr id="393" name=""/>
            <p:cNvSpPr/>
            <p:nvPr/>
          </p:nvSpPr>
          <p:spPr>
            <a:xfrm>
              <a:off x="607752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0440" y="4273560"/>
              <a:ext cx="626760" cy="146520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072200" y="3336840"/>
            <a:ext cx="624600" cy="2858040"/>
            <a:chOff x="7072200" y="3336840"/>
            <a:chExt cx="624600" cy="2858040"/>
          </a:xfrm>
        </p:grpSpPr>
        <p:sp>
          <p:nvSpPr>
            <p:cNvPr id="396" name=""/>
            <p:cNvSpPr/>
            <p:nvPr/>
          </p:nvSpPr>
          <p:spPr>
            <a:xfrm>
              <a:off x="7107120" y="5889600"/>
              <a:ext cx="586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FreeSetDemiBoldCTT"/>
                </a:rPr>
                <a:t>200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72200" y="3336840"/>
              <a:ext cx="624600" cy="2401920"/>
            </a:xfrm>
            <a:prstGeom prst="rect">
              <a:avLst/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7238880" y="3697200"/>
            <a:ext cx="21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eeSetDemiBoldCTT"/>
              </a:rPr>
              <a:t>прогно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984320" y="3017880"/>
            <a:ext cx="4893480" cy="2511360"/>
            <a:chOff x="1984320" y="3017880"/>
            <a:chExt cx="4893480" cy="2511360"/>
          </a:xfrm>
        </p:grpSpPr>
        <p:sp>
          <p:nvSpPr>
            <p:cNvPr id="400" name=""/>
            <p:cNvSpPr/>
            <p:nvPr/>
          </p:nvSpPr>
          <p:spPr>
            <a:xfrm rot="20416200">
              <a:off x="1996560" y="3812760"/>
              <a:ext cx="4868640" cy="920880"/>
            </a:xfrm>
            <a:prstGeom prst="rightArrow">
              <a:avLst>
                <a:gd name="adj1" fmla="val 45861"/>
                <a:gd name="adj2" fmla="val 131194"/>
              </a:avLst>
            </a:prstGeom>
            <a:gradFill rotWithShape="0">
              <a:gsLst>
                <a:gs pos="0">
                  <a:srgbClr val="003b00"/>
                </a:gs>
                <a:gs pos="100000">
                  <a:srgbClr val="008000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416200">
              <a:off x="2546640" y="426888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66960"/>
                  <a:tab algn="l" pos="1933560"/>
                  <a:tab algn="l" pos="2900520"/>
                  <a:tab algn="l" pos="3867120"/>
                  <a:tab algn="l" pos="4834080"/>
                  <a:tab algn="l" pos="5800680"/>
                  <a:tab algn="l" pos="6767640"/>
                  <a:tab algn="l" pos="7734240"/>
                  <a:tab algn="l" pos="8701200"/>
                  <a:tab algn="l" pos="9667800"/>
                  <a:tab algn="l" pos="1063476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reeSetDemiBoldCTT"/>
                </a:rPr>
                <a:t>Х 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8028000" y="6465960"/>
            <a:ext cx="1116000" cy="39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04C54-75AC-405F-A8E9-7AC6D4EE16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500"/>
                            </p:stCondLst>
                            <p:childTnLst>
                              <p:par>
                                <p:cTn id="4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50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650"/>
                            </p:stCondLst>
                            <p:childTnLst>
                              <p:par>
                                <p:cTn id="501" nodeType="afterEffect" fill="hold" presetClass="entr" presetID="23" presetSubtype="3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ИНТЕРНЕТ СЕГОДНЯ и ЗАВ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844640"/>
            <a:ext cx="777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24000" y="1989000"/>
          <a:ext cx="8496000" cy="4218120"/>
        </p:xfrm>
        <a:graphic>
          <a:graphicData uri="http://schemas.openxmlformats.org/drawingml/2006/table">
            <a:tbl>
              <a:tblPr/>
              <a:tblGrid>
                <a:gridCol w="2077920"/>
                <a:gridCol w="1246320"/>
                <a:gridCol w="215640"/>
                <a:gridCol w="800280"/>
                <a:gridCol w="215640"/>
                <a:gridCol w="884520"/>
                <a:gridCol w="1100160"/>
                <a:gridCol w="977760"/>
                <a:gridCol w="977760"/>
              </a:tblGrid>
              <a:tr h="3794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ДИ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 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524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ВИД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524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И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542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С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506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З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542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50940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КЛАМНЫЕ ИЗД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506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ЖНАЯ РЕКЛА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38124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ТЕР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0000"/>
                        </a:gs>
                        <a:gs pos="100000">
                          <a:srgbClr val="750000"/>
                        </a:gs>
                      </a:gsLst>
                      <a:lin ang="5400000"/>
                    </a:gradFill>
                  </a:tcPr>
                </a:tc>
              </a:tr>
              <a:tr h="35208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>
                        <a:alpha val="50000"/>
                      </a:srgbClr>
                    </a:solidFill>
                  </a:tcPr>
                </a:tc>
              </a:tr>
              <a:tr h="481320"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08000" rIns="108000" tIns="72000" bIns="72000" anchor="ctr">
                      <a:noAutofit/>
                    </a:bodyPr>
                    <a:p>
                      <a:pPr marL="343080" indent="-3430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0" marR="10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8" name=""/>
          <p:cNvSpPr/>
          <p:nvPr/>
        </p:nvSpPr>
        <p:spPr>
          <a:xfrm>
            <a:off x="0" y="1557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гноз роста российского рынка рекламы по сегментам до 2010 г.,млрд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7956720" y="6440400"/>
            <a:ext cx="1187280" cy="41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7299F-DDD8-4A00-B6FE-10D0C829AB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ые инвестиции в Ру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988E4-599D-42B3-B93D-BA2298BE96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искусство управления изменения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клама в Интернете сегодня и зав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временные инвестиции в Руне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обенности инвестиций в реги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52B069-3D1E-4728-B3C9-1F6AFAA182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84360" y="2060640"/>
            <a:ext cx="7581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интерес к инвестициям в Интернет раст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готов инвестировать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сурс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удности и барьеры на пути привлечения инвест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вестиционная привлек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BF055-DCEB-4C10-B6F9-275183012C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9795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вестиционная привлек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01440" y="2205000"/>
            <a:ext cx="7666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иционирование на основных ры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намика роста выру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намика прибы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ыночная ситу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авнение с другими компаниями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170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Оценка стоимости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DB58C-EEDD-407D-9930-CE245A057E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0" y="981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вестиционная привлек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8360" y="2205000"/>
            <a:ext cx="721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ущий ры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ая стратегия и бизнес мод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приятная динамика роста сек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льный бренд или портфель брен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фессиональный менедж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628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Unicode MS"/>
              </a:rPr>
              <a:t>Составляющие успешного размещения инвести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B576B-D63A-498F-9F0D-C65CEC7313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обенности инвестиций в реги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C07A1-9222-47A1-9E23-7B2B1435B4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755280" y="1557000"/>
            <a:ext cx="77770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ПАСИБО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сен Чичи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ректор по развитию бизнеса и 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LLOWPAGES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sen.chichikin@yp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7 495 139 99 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BD829-8CCC-492E-8F88-5652D0FEBD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— искусство управления изменения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FB97E-090A-4E64-9D03-B0330E2A01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меняется в современном бизнес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странств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тановится глобальным и виртуальны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тановится сжатым и критичны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реби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хочет быть соавто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 защи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атенты не спасаю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огоуровневая иерарх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ешает гибк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я усл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с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бновляются все быстре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еряют цикли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ужно принимать в реальном време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66702-8DFE-4309-89E8-AD5BD96BFE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ринесла «электронная экономика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ое определение отраслевой структу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формация – уже не издержки, а источник создания ц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ход рыночной силы к потреб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изацию мгновен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овые бизнес-мод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акие, как глобальные аукцио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ущности процесса планирования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частоты цикла и перераспределения ролей и сфер ответств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ad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я в политике вознагра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результаты и процессы надо оценивать независимо, поощря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тегические эксперимен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88F51E-E875-46A9-9239-6116527B5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товимся к непредсказуемому будущ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создания легко адаптируемой организации необходимо решить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я системы раннего оповещения для выявления перемен, на которые нужно быстро отреагирова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воения искусства быстрой разработки и внедрения новых методов работы, которых потребует изменение внешней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организационной инфраструктуры, которая поддерживала бы решение двух первы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3D5B2-37FB-407A-B014-8536EFDD49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гкость ведения  дел с компан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иентов интересует сколько сил нужно приложить, чтобы заказать, получить и оплатить товары или услу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BC156-EAA8-4D98-A74C-EFB670CE2D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267920"/>
            <a:ext cx="849780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ad9"/>
                </a:solidFill>
                <a:latin typeface="Arial"/>
              </a:rPr>
              <a:t>Условия клиентской эконом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едложение клиентам больше значимых для них цен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 оставляйте свой товар у порога клиента – войдите в дом, узнайте, какие проблемы клиент хочет решить при помощи вашего товара и решите их за не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a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сероссийск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тернет-МАРАФОН '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981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236000" y="6188040"/>
            <a:ext cx="1908000" cy="66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г.Екатеринбург (А.Чичикин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7590D-EBB3-4454-A92C-561929792D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06:11Z</dcterms:created>
  <dc:creator>Arsen Chichikin</dc:creator>
  <dc:description/>
  <dc:language>en-US</dc:language>
  <cp:lastModifiedBy>Arsen Chichikin</cp:lastModifiedBy>
  <dcterms:modified xsi:type="dcterms:W3CDTF">2006-08-23T04:06:10Z</dcterms:modified>
  <cp:revision>92</cp:revision>
  <dc:subject/>
  <dc:title>Slide 1</dc:title>
</cp:coreProperties>
</file>